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8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AE8-F00E-49A6-A8B7-CD1B8EF3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52C-272D-4F6C-98B7-AA9CC6A3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EB0-066B-4D54-ADF1-7CF9F638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F56-20B1-4BD7-9D04-D765861D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B027-BE7D-4775-870C-3115FF1C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9F2B-F2CE-4B1E-B33F-CE1B861A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1135-E842-41A7-A02E-B68CE2DB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40CA-42FB-4273-A98E-236A480D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B9B5-B527-4CDE-85E6-8AEC75EE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CF55-B547-4CBB-9C6D-4AD14D5F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E7EE-8C41-4D56-AD76-6F01AFB4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9AF-B610-4207-8D25-655E2A9E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7AF1-96CE-443B-8CB0-9CDF867A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F773-0ADD-46EE-87ED-61436904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7B9A-5339-4B10-84BD-C628E29D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7E2D-3FAF-4D62-B4E0-C8D72A3A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4F60-5FFD-47F7-BAD9-3BEBA789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D75-D586-41F6-B553-AED6E733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720-5EA5-48E0-98F2-8092D898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41E-E74F-41A0-B03F-0D223BD3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B55-9BCB-4AE1-963F-2EC81B73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3DF-46DF-460B-95BA-03116086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4E8-B7F2-49E2-B84A-CE8E220E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4EB-4FF1-4CC8-88D0-9B02CE13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5F3C-737A-4AD4-AB4A-E183799BC27D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345F-E429-44FA-BC2B-4A07DE46A7D2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2000" cy="7040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9880" y="4724280"/>
            <a:ext cx="53341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ecff"/>
                </a:solidFill>
                <a:latin typeface="Times New Roman"/>
              </a:rPr>
              <a:t>高一</a:t>
            </a:r>
            <a:r>
              <a:rPr b="0" lang="zh-CN" sz="6000" spc="-1" strike="noStrike">
                <a:solidFill>
                  <a:srgbClr val="ccecff"/>
                </a:solidFill>
                <a:latin typeface="Times New Roman"/>
              </a:rPr>
              <a:t>7</a:t>
            </a:r>
            <a:r>
              <a:rPr b="0" lang="zh-CN" sz="6000" spc="-1" strike="noStrike">
                <a:solidFill>
                  <a:srgbClr val="ccecff"/>
                </a:solidFill>
                <a:latin typeface="Times New Roman"/>
              </a:rPr>
              <a:t>班班会课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2197080" y="2205000"/>
            <a:ext cx="8229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    </a:t>
            </a: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挑 战 自 我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5181480"/>
            <a:ext cx="1218960" cy="0"/>
          </a:xfrm>
          <a:prstGeom prst="line">
            <a:avLst/>
          </a:prstGeom>
          <a:ln w="34920">
            <a:solidFill>
              <a:srgbClr val="99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0" y="836640"/>
            <a:ext cx="8458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学会自我分析，自我激励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1280" y="4149720"/>
            <a:ext cx="7315200" cy="21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有计划，有步骤地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                    </a:t>
            </a: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扬长避短。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-76320" y="380880"/>
            <a:ext cx="6858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抓住时间的窃贼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880" y="2438280"/>
            <a:ext cx="8839440" cy="17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ff"/>
                </a:solidFill>
                <a:latin typeface="Times New Roman"/>
              </a:rPr>
              <a:t>抓住它、制服它，它就向你进贡，给你知识、给你物质、给你财富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ff"/>
                </a:solidFill>
                <a:latin typeface="Times New Roman"/>
              </a:rPr>
              <a:t>放过它、屈服它，它就向你进攻，给你愚昧、给你贫困、给你痛苦、给你失望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32000" y="2997360"/>
            <a:ext cx="6553080" cy="26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努力，再努力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做到最好！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252000" cy="696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3357720"/>
            <a:ext cx="83055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Times New Roman"/>
                <a:ea typeface="黑体"/>
              </a:rPr>
              <a:t>哲人说：“蕴藏于人身上的潜力是巨大的，他能胜任什么事情，别人无法知道，若不动手尝试，他对自己的这种能力就一直蒙昧不察”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533520"/>
            <a:ext cx="8305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一、了解自己：人脑的巨大潜力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362320"/>
            <a:ext cx="6580080" cy="239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知己知彼，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             </a:t>
            </a: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百战不殆。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998720" cy="6067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533520"/>
            <a:ext cx="6629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二、欣赏我自己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438280"/>
            <a:ext cx="6324480" cy="28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ff"/>
                </a:solidFill>
                <a:latin typeface="Times New Roman"/>
              </a:rPr>
              <a:t>学会欣赏自己，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ff"/>
                </a:solidFill>
                <a:latin typeface="Times New Roman"/>
              </a:rPr>
              <a:t>肯定自己，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ff"/>
                </a:solidFill>
                <a:latin typeface="Times New Roman"/>
              </a:rPr>
              <a:t>是保持自信的前提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457200"/>
            <a:ext cx="83822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三、“我”的另一面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76720" y="1905120"/>
            <a:ext cx="2286000" cy="2532240"/>
            <a:chOff x="3276720" y="1905120"/>
            <a:chExt cx="2286000" cy="2532240"/>
          </a:xfrm>
        </p:grpSpPr>
        <p:sp>
          <p:nvSpPr>
            <p:cNvPr id="108" name=""/>
            <p:cNvSpPr/>
            <p:nvPr/>
          </p:nvSpPr>
          <p:spPr>
            <a:xfrm>
              <a:off x="3581280" y="1905120"/>
              <a:ext cx="198144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9900"/>
                  </a:solidFill>
                  <a:latin typeface="Times New Roman"/>
                </a:rPr>
                <a:t>自我</a:t>
              </a:r>
              <a:endParaRPr b="0" lang="en-US" sz="6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3429000"/>
              <a:ext cx="198108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9900"/>
                  </a:solidFill>
                  <a:latin typeface="Times New Roman"/>
                </a:rPr>
                <a:t>自我</a:t>
              </a:r>
              <a:endParaRPr b="0" lang="en-US" sz="6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19320" y="1905120"/>
            <a:ext cx="3352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Times New Roman"/>
              </a:rPr>
              <a:t>积极的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429000"/>
            <a:ext cx="3352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e5cbe"/>
                </a:solidFill>
                <a:latin typeface="Times New Roman"/>
              </a:rPr>
              <a:t>消极的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00200"/>
            <a:ext cx="9144000" cy="4842360"/>
          </a:xfrm>
          <a:prstGeom prst="rect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99"/>
                </a:solidFill>
                <a:latin typeface="Times New Roman"/>
              </a:rPr>
              <a:t>积极的自我能给我们带来欢乐、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99"/>
                </a:solidFill>
                <a:latin typeface="Times New Roman"/>
              </a:rPr>
              <a:t>成功，消极的自我会给我们带来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99"/>
                </a:solidFill>
                <a:latin typeface="Times New Roman"/>
              </a:rPr>
              <a:t>挫折和痛苦，我们要正视我们的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99"/>
                </a:solidFill>
                <a:latin typeface="Times New Roman"/>
              </a:rPr>
              <a:t>另一个“我”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04920"/>
            <a:ext cx="63244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如何挑战自我？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905120"/>
            <a:ext cx="8153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（一）把握好自己的情绪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114800"/>
            <a:ext cx="6172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（二）勇于面对挫折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048120"/>
            <a:ext cx="60962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bae6c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8bae6c"/>
                </a:solidFill>
                <a:latin typeface="Times New Roman"/>
              </a:rPr>
              <a:t>积极、愉快的情绪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81080" y="45720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你忍受挫折的能力强吗？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270160"/>
            <a:ext cx="8686800" cy="34844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测试题：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有非常令人担心的事时，我：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无法学习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学习照常无误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介于二者之间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346480"/>
            <a:ext cx="8458200" cy="25574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碰到了自己不喜欢的竞争对手时，我：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无法应付   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应付自如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介于二者之间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651040"/>
            <a:ext cx="8458200" cy="25574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遇到失败时，我会：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破罐破摔   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使失败变为成功的挈机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介于二者之间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498760"/>
            <a:ext cx="8458200" cy="34844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学习上进展不快时，我常常：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十分焦躁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冷静地想办法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介于二者之间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727360"/>
            <a:ext cx="8458200" cy="25574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学习中碰到难题时，我：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很容易失去信心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总是为解决问题积极动脑筋  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介于二者之间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422440"/>
            <a:ext cx="8458200" cy="25574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学习中感到疲劳时，我：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总是想着劳累不堪，脑子不好使了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不顾疲劳继续学习  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介于二者之间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422440"/>
            <a:ext cx="8458200" cy="25574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当学习条件恶劣时，我：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无法继续学习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能克服困难继续学习  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介于二者之间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498760"/>
            <a:ext cx="8458200" cy="25574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受到老师或家长指责时，我：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不想再学习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能振奋精神更好地学习  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介于二者之间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651040"/>
            <a:ext cx="8458200" cy="25574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与同学相比自己落后时，我：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感到自卑，抬不起头来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若无其事，照常学习  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介于二者之间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458200" cy="25574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当困难的任务落到自己头上是，我：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感到非常嫌恶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认为是个锻炼  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介于二者之间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457200"/>
            <a:ext cx="3581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评分说明：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37160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答案中：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记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0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分，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记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分，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记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分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3520" y="2743200"/>
            <a:ext cx="8610120" cy="2286000"/>
            <a:chOff x="533520" y="2743200"/>
            <a:chExt cx="8610120" cy="2286000"/>
          </a:xfrm>
        </p:grpSpPr>
        <p:grpSp>
          <p:nvGrpSpPr>
            <p:cNvPr id="132" name=""/>
            <p:cNvGrpSpPr/>
            <p:nvPr/>
          </p:nvGrpSpPr>
          <p:grpSpPr>
            <a:xfrm>
              <a:off x="533520" y="2743200"/>
              <a:ext cx="8610120" cy="1219320"/>
              <a:chOff x="533520" y="2743200"/>
              <a:chExt cx="8610120" cy="121932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533520" y="2743200"/>
                <a:ext cx="8457480" cy="1219320"/>
                <a:chOff x="533520" y="2743200"/>
                <a:chExt cx="8457480" cy="1219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33520" y="2819520"/>
                  <a:ext cx="8381880" cy="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09480" y="3886200"/>
                  <a:ext cx="8381520" cy="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33520" y="281952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3880" y="281952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33520" y="3352680"/>
                  <a:ext cx="8381880" cy="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361960" y="274320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200400" y="274320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160" y="274320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24280" y="274320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486400" y="281952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281952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62560" y="274320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076960" y="281952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915400" y="281952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838080" y="278748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99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00200" y="278748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99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438280" y="278748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99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00400" y="281952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990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14800" y="281952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9900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00600" y="278748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9900"/>
                    </a:solidFill>
                    <a:latin typeface="Times New Roman"/>
                  </a:rPr>
                  <a:t>6</a:t>
                </a:r>
                <a:endParaRPr b="0" lang="en-US" sz="3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2360" y="281952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99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00800" y="281952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9900"/>
                    </a:solidFill>
                    <a:latin typeface="Times New Roman"/>
                  </a:rPr>
                  <a:t>8</a:t>
                </a:r>
                <a:endParaRPr b="0" lang="en-US" sz="3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15200" y="281952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9900"/>
                    </a:solidFill>
                    <a:latin typeface="Times New Roman"/>
                  </a:rPr>
                  <a:t>9</a:t>
                </a:r>
                <a:endParaRPr b="0" lang="en-US" sz="3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4680" y="2819520"/>
                <a:ext cx="121896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9900"/>
                    </a:solidFill>
                    <a:latin typeface="Times New Roman"/>
                  </a:rPr>
                  <a:t>10</a:t>
                </a:r>
                <a:endParaRPr b="0" lang="en-US" sz="3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33520" y="3809880"/>
              <a:ext cx="8610120" cy="1219320"/>
              <a:chOff x="533520" y="3809880"/>
              <a:chExt cx="8610120" cy="121932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533520" y="3809880"/>
                <a:ext cx="8457480" cy="1219320"/>
                <a:chOff x="533520" y="3809880"/>
                <a:chExt cx="8457480" cy="12193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33520" y="3886200"/>
                  <a:ext cx="8381880" cy="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9480" y="4952880"/>
                  <a:ext cx="8381520" cy="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3520" y="388620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523880" y="388620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520" y="4419360"/>
                  <a:ext cx="8381880" cy="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61960" y="380988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200400" y="380988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962160" y="380988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724280" y="380988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86400" y="388620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324480" y="388620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162560" y="380988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076960" y="388620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915400" y="3886200"/>
                  <a:ext cx="0" cy="1143000"/>
                </a:xfrm>
                <a:prstGeom prst="line">
                  <a:avLst/>
                </a:prstGeom>
                <a:ln w="34920">
                  <a:solidFill>
                    <a:srgbClr val="99cc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838080" y="3854160"/>
                <a:ext cx="609120" cy="641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00200" y="3854160"/>
                <a:ext cx="609120" cy="641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38280" y="3854160"/>
                <a:ext cx="609120" cy="641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200400" y="3886200"/>
                <a:ext cx="609120" cy="641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14800" y="3886200"/>
                <a:ext cx="609120" cy="641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00600" y="3854160"/>
                <a:ext cx="609120" cy="641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562360" y="3886200"/>
                <a:ext cx="609480" cy="641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00800" y="3886200"/>
                <a:ext cx="609120" cy="641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15200" y="3886200"/>
                <a:ext cx="609120" cy="641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24680" y="3886200"/>
                <a:ext cx="1218960" cy="641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762120" y="2590920"/>
            <a:ext cx="1828800" cy="0"/>
          </a:xfrm>
          <a:prstGeom prst="line">
            <a:avLst/>
          </a:prstGeom>
          <a:ln w="76320">
            <a:solidFill>
              <a:srgbClr val="99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286000"/>
            <a:ext cx="8610480" cy="143460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总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7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分以上，忍受挫折和冲击能力很强；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—16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分，虽有一定的忍受挫折能力，但对某些方面的冲击抵抗能力还很弱；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、忍受挫折能力很差，需要锻炼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258920" y="2997360"/>
            <a:ext cx="1904040" cy="2036160"/>
            <a:chOff x="1258920" y="2997360"/>
            <a:chExt cx="1904040" cy="2036160"/>
          </a:xfrm>
        </p:grpSpPr>
        <p:grpSp>
          <p:nvGrpSpPr>
            <p:cNvPr id="187" name=""/>
            <p:cNvGrpSpPr/>
            <p:nvPr/>
          </p:nvGrpSpPr>
          <p:grpSpPr>
            <a:xfrm>
              <a:off x="1258920" y="3087000"/>
              <a:ext cx="1203120" cy="1924560"/>
              <a:chOff x="1258920" y="3087000"/>
              <a:chExt cx="1203120" cy="1924560"/>
            </a:xfrm>
          </p:grpSpPr>
          <p:sp>
            <p:nvSpPr>
              <p:cNvPr id="188" name=""/>
              <p:cNvSpPr/>
              <p:nvPr/>
            </p:nvSpPr>
            <p:spPr>
              <a:xfrm>
                <a:off x="1824120" y="4885560"/>
                <a:ext cx="637920" cy="126000"/>
              </a:xfrm>
              <a:custGeom>
                <a:avLst/>
                <a:gdLst/>
                <a:ahLst/>
                <a:rect l="l" t="t" r="r" b="b"/>
                <a:pathLst>
                  <a:path w="454" h="121">
                    <a:moveTo>
                      <a:pt x="271" y="0"/>
                    </a:moveTo>
                    <a:lnTo>
                      <a:pt x="230" y="4"/>
                    </a:lnTo>
                    <a:lnTo>
                      <a:pt x="186" y="9"/>
                    </a:lnTo>
                    <a:lnTo>
                      <a:pt x="156" y="15"/>
                    </a:lnTo>
                    <a:lnTo>
                      <a:pt x="135" y="12"/>
                    </a:lnTo>
                    <a:lnTo>
                      <a:pt x="102" y="13"/>
                    </a:lnTo>
                    <a:lnTo>
                      <a:pt x="57" y="18"/>
                    </a:lnTo>
                    <a:lnTo>
                      <a:pt x="29" y="25"/>
                    </a:lnTo>
                    <a:lnTo>
                      <a:pt x="11" y="34"/>
                    </a:lnTo>
                    <a:lnTo>
                      <a:pt x="3" y="42"/>
                    </a:lnTo>
                    <a:lnTo>
                      <a:pt x="0" y="55"/>
                    </a:lnTo>
                    <a:lnTo>
                      <a:pt x="6" y="64"/>
                    </a:lnTo>
                    <a:lnTo>
                      <a:pt x="17" y="72"/>
                    </a:lnTo>
                    <a:lnTo>
                      <a:pt x="32" y="79"/>
                    </a:lnTo>
                    <a:lnTo>
                      <a:pt x="53" y="86"/>
                    </a:lnTo>
                    <a:lnTo>
                      <a:pt x="77" y="91"/>
                    </a:lnTo>
                    <a:lnTo>
                      <a:pt x="141" y="97"/>
                    </a:lnTo>
                    <a:lnTo>
                      <a:pt x="311" y="111"/>
                    </a:lnTo>
                    <a:lnTo>
                      <a:pt x="454" y="121"/>
                    </a:lnTo>
                    <a:lnTo>
                      <a:pt x="271" y="0"/>
                    </a:lnTo>
                    <a:close/>
                  </a:path>
                </a:pathLst>
              </a:custGeom>
              <a:solidFill>
                <a:srgbClr val="3f3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1258920" y="3087000"/>
                <a:ext cx="981720" cy="778680"/>
                <a:chOff x="1258920" y="3087000"/>
                <a:chExt cx="981720" cy="77868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1258920" y="3087000"/>
                  <a:ext cx="981720" cy="778680"/>
                  <a:chOff x="1258920" y="3087000"/>
                  <a:chExt cx="981720" cy="778680"/>
                </a:xfrm>
              </p:grpSpPr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1372680" y="3087000"/>
                    <a:ext cx="867960" cy="724680"/>
                    <a:chOff x="1372680" y="3087000"/>
                    <a:chExt cx="867960" cy="724680"/>
                  </a:xfrm>
                </p:grpSpPr>
                <p:grpSp>
                  <p:nvGrpSpPr>
                    <p:cNvPr id="192" name=""/>
                    <p:cNvGrpSpPr/>
                    <p:nvPr/>
                  </p:nvGrpSpPr>
                  <p:grpSpPr>
                    <a:xfrm>
                      <a:off x="1372680" y="3087000"/>
                      <a:ext cx="867960" cy="724680"/>
                      <a:chOff x="1372680" y="3087000"/>
                      <a:chExt cx="867960" cy="724680"/>
                    </a:xfrm>
                  </p:grpSpPr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1378080" y="3087000"/>
                        <a:ext cx="862560" cy="72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4" h="693">
                            <a:moveTo>
                              <a:pt x="490" y="60"/>
                            </a:moveTo>
                            <a:lnTo>
                              <a:pt x="544" y="0"/>
                            </a:lnTo>
                            <a:lnTo>
                              <a:pt x="560" y="1"/>
                            </a:lnTo>
                            <a:lnTo>
                              <a:pt x="574" y="4"/>
                            </a:lnTo>
                            <a:lnTo>
                              <a:pt x="587" y="10"/>
                            </a:lnTo>
                            <a:lnTo>
                              <a:pt x="597" y="17"/>
                            </a:lnTo>
                            <a:lnTo>
                              <a:pt x="605" y="25"/>
                            </a:lnTo>
                            <a:lnTo>
                              <a:pt x="611" y="37"/>
                            </a:lnTo>
                            <a:lnTo>
                              <a:pt x="614" y="53"/>
                            </a:lnTo>
                            <a:lnTo>
                              <a:pt x="613" y="68"/>
                            </a:lnTo>
                            <a:lnTo>
                              <a:pt x="44" y="693"/>
                            </a:lnTo>
                            <a:lnTo>
                              <a:pt x="0" y="645"/>
                            </a:lnTo>
                            <a:lnTo>
                              <a:pt x="490" y="6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1372680" y="3758760"/>
                        <a:ext cx="7020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51">
                            <a:moveTo>
                              <a:pt x="2" y="2"/>
                            </a:moveTo>
                            <a:lnTo>
                              <a:pt x="15" y="0"/>
                            </a:lnTo>
                            <a:lnTo>
                              <a:pt x="27" y="5"/>
                            </a:lnTo>
                            <a:lnTo>
                              <a:pt x="37" y="11"/>
                            </a:lnTo>
                            <a:lnTo>
                              <a:pt x="44" y="18"/>
                            </a:lnTo>
                            <a:lnTo>
                              <a:pt x="49" y="30"/>
                            </a:lnTo>
                            <a:lnTo>
                              <a:pt x="50" y="42"/>
                            </a:lnTo>
                            <a:lnTo>
                              <a:pt x="48" y="49"/>
                            </a:lnTo>
                            <a:lnTo>
                              <a:pt x="39" y="51"/>
                            </a:lnTo>
                            <a:lnTo>
                              <a:pt x="26" y="50"/>
                            </a:lnTo>
                            <a:lnTo>
                              <a:pt x="18" y="46"/>
                            </a:lnTo>
                            <a:lnTo>
                              <a:pt x="10" y="40"/>
                            </a:lnTo>
                            <a:lnTo>
                              <a:pt x="5" y="34"/>
                            </a:lnTo>
                            <a:lnTo>
                              <a:pt x="1" y="22"/>
                            </a:lnTo>
                            <a:lnTo>
                              <a:pt x="0" y="11"/>
                            </a:lnTo>
                            <a:lnTo>
                              <a:pt x="2" y="2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5" name=""/>
                    <p:cNvGrpSpPr/>
                    <p:nvPr/>
                  </p:nvGrpSpPr>
                  <p:grpSpPr>
                    <a:xfrm>
                      <a:off x="1562400" y="3090600"/>
                      <a:ext cx="676800" cy="538560"/>
                      <a:chOff x="1562400" y="3090600"/>
                      <a:chExt cx="676800" cy="538560"/>
                    </a:xfrm>
                  </p:grpSpPr>
                  <p:grpSp>
                    <p:nvGrpSpPr>
                      <p:cNvPr id="196" name=""/>
                      <p:cNvGrpSpPr/>
                      <p:nvPr/>
                    </p:nvGrpSpPr>
                    <p:grpSpPr>
                      <a:xfrm>
                        <a:off x="2064960" y="3090600"/>
                        <a:ext cx="174240" cy="98280"/>
                        <a:chOff x="2064960" y="3090600"/>
                        <a:chExt cx="174240" cy="98280"/>
                      </a:xfrm>
                    </p:grpSpPr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 flipV="1">
                          <a:off x="2064960" y="3090600"/>
                          <a:ext cx="106560" cy="83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360" bIns="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 flipV="1">
                          <a:off x="2126520" y="3100680"/>
                          <a:ext cx="80280" cy="52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 flipV="1">
                          <a:off x="2115360" y="3114360"/>
                          <a:ext cx="11340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 flipV="1">
                          <a:off x="2161800" y="3140640"/>
                          <a:ext cx="77400" cy="42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1562400" y="3435840"/>
                        <a:ext cx="230040" cy="193320"/>
                        <a:chOff x="1562400" y="3435840"/>
                        <a:chExt cx="230040" cy="19332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 flipV="1">
                          <a:off x="1562400" y="3539880"/>
                          <a:ext cx="79920" cy="67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 flipV="1">
                          <a:off x="1604160" y="3583080"/>
                          <a:ext cx="46080" cy="3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 flipV="1">
                          <a:off x="1622520" y="3490920"/>
                          <a:ext cx="169920" cy="138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 flipV="1">
                          <a:off x="1705320" y="3435840"/>
                          <a:ext cx="85680" cy="63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560" bIns="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206" name=""/>
                  <p:cNvSpPr/>
                  <p:nvPr/>
                </p:nvSpPr>
                <p:spPr>
                  <a:xfrm>
                    <a:off x="1258920" y="3517920"/>
                    <a:ext cx="525600" cy="34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334">
                        <a:moveTo>
                          <a:pt x="0" y="157"/>
                        </a:moveTo>
                        <a:lnTo>
                          <a:pt x="8" y="133"/>
                        </a:lnTo>
                        <a:lnTo>
                          <a:pt x="20" y="107"/>
                        </a:lnTo>
                        <a:lnTo>
                          <a:pt x="33" y="86"/>
                        </a:lnTo>
                        <a:lnTo>
                          <a:pt x="49" y="64"/>
                        </a:lnTo>
                        <a:lnTo>
                          <a:pt x="64" y="47"/>
                        </a:lnTo>
                        <a:lnTo>
                          <a:pt x="83" y="30"/>
                        </a:lnTo>
                        <a:lnTo>
                          <a:pt x="103" y="15"/>
                        </a:lnTo>
                        <a:lnTo>
                          <a:pt x="125" y="0"/>
                        </a:lnTo>
                        <a:lnTo>
                          <a:pt x="137" y="13"/>
                        </a:lnTo>
                        <a:lnTo>
                          <a:pt x="152" y="27"/>
                        </a:lnTo>
                        <a:lnTo>
                          <a:pt x="170" y="42"/>
                        </a:lnTo>
                        <a:lnTo>
                          <a:pt x="194" y="62"/>
                        </a:lnTo>
                        <a:lnTo>
                          <a:pt x="217" y="80"/>
                        </a:lnTo>
                        <a:lnTo>
                          <a:pt x="241" y="96"/>
                        </a:lnTo>
                        <a:lnTo>
                          <a:pt x="268" y="115"/>
                        </a:lnTo>
                        <a:lnTo>
                          <a:pt x="297" y="132"/>
                        </a:lnTo>
                        <a:lnTo>
                          <a:pt x="322" y="145"/>
                        </a:lnTo>
                        <a:lnTo>
                          <a:pt x="345" y="158"/>
                        </a:lnTo>
                        <a:lnTo>
                          <a:pt x="374" y="173"/>
                        </a:lnTo>
                        <a:lnTo>
                          <a:pt x="255" y="334"/>
                        </a:lnTo>
                        <a:lnTo>
                          <a:pt x="233" y="312"/>
                        </a:lnTo>
                        <a:lnTo>
                          <a:pt x="208" y="288"/>
                        </a:lnTo>
                        <a:lnTo>
                          <a:pt x="192" y="270"/>
                        </a:lnTo>
                        <a:lnTo>
                          <a:pt x="173" y="253"/>
                        </a:lnTo>
                        <a:lnTo>
                          <a:pt x="151" y="238"/>
                        </a:lnTo>
                        <a:lnTo>
                          <a:pt x="121" y="218"/>
                        </a:lnTo>
                        <a:lnTo>
                          <a:pt x="95" y="203"/>
                        </a:lnTo>
                        <a:lnTo>
                          <a:pt x="68" y="188"/>
                        </a:lnTo>
                        <a:lnTo>
                          <a:pt x="45" y="175"/>
                        </a:lnTo>
                        <a:lnTo>
                          <a:pt x="20" y="164"/>
                        </a:lnTo>
                        <a:lnTo>
                          <a:pt x="0" y="157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1615680" y="3699360"/>
                  <a:ext cx="167040" cy="166320"/>
                </a:xfrm>
                <a:custGeom>
                  <a:avLst/>
                  <a:gdLst/>
                  <a:ahLst/>
                  <a:rect l="l" t="t" r="r" b="b"/>
                  <a:pathLst>
                    <a:path w="119" h="160">
                      <a:moveTo>
                        <a:pt x="119" y="0"/>
                      </a:moveTo>
                      <a:lnTo>
                        <a:pt x="102" y="7"/>
                      </a:lnTo>
                      <a:lnTo>
                        <a:pt x="87" y="17"/>
                      </a:lnTo>
                      <a:lnTo>
                        <a:pt x="73" y="29"/>
                      </a:lnTo>
                      <a:lnTo>
                        <a:pt x="59" y="43"/>
                      </a:lnTo>
                      <a:lnTo>
                        <a:pt x="44" y="61"/>
                      </a:lnTo>
                      <a:lnTo>
                        <a:pt x="35" y="75"/>
                      </a:lnTo>
                      <a:lnTo>
                        <a:pt x="23" y="94"/>
                      </a:lnTo>
                      <a:lnTo>
                        <a:pt x="13" y="114"/>
                      </a:lnTo>
                      <a:lnTo>
                        <a:pt x="4" y="135"/>
                      </a:lnTo>
                      <a:lnTo>
                        <a:pt x="0" y="160"/>
                      </a:lnTo>
                      <a:lnTo>
                        <a:pt x="18" y="155"/>
                      </a:lnTo>
                      <a:lnTo>
                        <a:pt x="32" y="148"/>
                      </a:lnTo>
                      <a:lnTo>
                        <a:pt x="50" y="138"/>
                      </a:lnTo>
                      <a:lnTo>
                        <a:pt x="66" y="124"/>
                      </a:lnTo>
                      <a:lnTo>
                        <a:pt x="81" y="108"/>
                      </a:lnTo>
                      <a:lnTo>
                        <a:pt x="93" y="91"/>
                      </a:lnTo>
                      <a:lnTo>
                        <a:pt x="102" y="74"/>
                      </a:lnTo>
                      <a:lnTo>
                        <a:pt x="111" y="53"/>
                      </a:lnTo>
                      <a:lnTo>
                        <a:pt x="116" y="36"/>
                      </a:lnTo>
                      <a:lnTo>
                        <a:pt x="118" y="17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1667880" y="2997360"/>
              <a:ext cx="1495080" cy="2036160"/>
              <a:chOff x="1667880" y="2997360"/>
              <a:chExt cx="1495080" cy="20361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1667880" y="2997360"/>
                <a:ext cx="1495080" cy="2036160"/>
                <a:chOff x="1667880" y="2997360"/>
                <a:chExt cx="1495080" cy="203616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1981440" y="4398480"/>
                  <a:ext cx="876960" cy="635040"/>
                  <a:chOff x="1981440" y="4398480"/>
                  <a:chExt cx="876960" cy="635040"/>
                </a:xfrm>
              </p:grpSpPr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2137320" y="4411800"/>
                    <a:ext cx="721080" cy="423720"/>
                    <a:chOff x="2137320" y="4411800"/>
                    <a:chExt cx="721080" cy="42372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137320" y="4411800"/>
                      <a:ext cx="72108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3" h="407">
                          <a:moveTo>
                            <a:pt x="136" y="0"/>
                          </a:moveTo>
                          <a:lnTo>
                            <a:pt x="180" y="10"/>
                          </a:lnTo>
                          <a:lnTo>
                            <a:pt x="144" y="91"/>
                          </a:lnTo>
                          <a:lnTo>
                            <a:pt x="111" y="158"/>
                          </a:lnTo>
                          <a:lnTo>
                            <a:pt x="90" y="207"/>
                          </a:lnTo>
                          <a:lnTo>
                            <a:pt x="84" y="228"/>
                          </a:lnTo>
                          <a:lnTo>
                            <a:pt x="85" y="245"/>
                          </a:lnTo>
                          <a:lnTo>
                            <a:pt x="93" y="257"/>
                          </a:lnTo>
                          <a:lnTo>
                            <a:pt x="109" y="269"/>
                          </a:lnTo>
                          <a:lnTo>
                            <a:pt x="131" y="282"/>
                          </a:lnTo>
                          <a:lnTo>
                            <a:pt x="154" y="290"/>
                          </a:lnTo>
                          <a:lnTo>
                            <a:pt x="186" y="300"/>
                          </a:lnTo>
                          <a:lnTo>
                            <a:pt x="216" y="305"/>
                          </a:lnTo>
                          <a:lnTo>
                            <a:pt x="253" y="308"/>
                          </a:lnTo>
                          <a:lnTo>
                            <a:pt x="287" y="305"/>
                          </a:lnTo>
                          <a:lnTo>
                            <a:pt x="321" y="300"/>
                          </a:lnTo>
                          <a:lnTo>
                            <a:pt x="358" y="292"/>
                          </a:lnTo>
                          <a:lnTo>
                            <a:pt x="371" y="295"/>
                          </a:lnTo>
                          <a:lnTo>
                            <a:pt x="376" y="298"/>
                          </a:lnTo>
                          <a:lnTo>
                            <a:pt x="378" y="305"/>
                          </a:lnTo>
                          <a:lnTo>
                            <a:pt x="373" y="319"/>
                          </a:lnTo>
                          <a:lnTo>
                            <a:pt x="368" y="327"/>
                          </a:lnTo>
                          <a:lnTo>
                            <a:pt x="375" y="330"/>
                          </a:lnTo>
                          <a:lnTo>
                            <a:pt x="426" y="321"/>
                          </a:lnTo>
                          <a:lnTo>
                            <a:pt x="438" y="324"/>
                          </a:lnTo>
                          <a:lnTo>
                            <a:pt x="445" y="329"/>
                          </a:lnTo>
                          <a:lnTo>
                            <a:pt x="448" y="337"/>
                          </a:lnTo>
                          <a:lnTo>
                            <a:pt x="443" y="344"/>
                          </a:lnTo>
                          <a:lnTo>
                            <a:pt x="434" y="350"/>
                          </a:lnTo>
                          <a:lnTo>
                            <a:pt x="423" y="357"/>
                          </a:lnTo>
                          <a:lnTo>
                            <a:pt x="431" y="362"/>
                          </a:lnTo>
                          <a:lnTo>
                            <a:pt x="453" y="360"/>
                          </a:lnTo>
                          <a:lnTo>
                            <a:pt x="471" y="362"/>
                          </a:lnTo>
                          <a:lnTo>
                            <a:pt x="489" y="368"/>
                          </a:lnTo>
                          <a:lnTo>
                            <a:pt x="509" y="377"/>
                          </a:lnTo>
                          <a:lnTo>
                            <a:pt x="513" y="384"/>
                          </a:lnTo>
                          <a:lnTo>
                            <a:pt x="512" y="393"/>
                          </a:lnTo>
                          <a:lnTo>
                            <a:pt x="503" y="399"/>
                          </a:lnTo>
                          <a:lnTo>
                            <a:pt x="485" y="402"/>
                          </a:lnTo>
                          <a:lnTo>
                            <a:pt x="455" y="404"/>
                          </a:lnTo>
                          <a:lnTo>
                            <a:pt x="422" y="402"/>
                          </a:lnTo>
                          <a:lnTo>
                            <a:pt x="385" y="405"/>
                          </a:lnTo>
                          <a:lnTo>
                            <a:pt x="360" y="407"/>
                          </a:lnTo>
                          <a:lnTo>
                            <a:pt x="313" y="404"/>
                          </a:lnTo>
                          <a:lnTo>
                            <a:pt x="289" y="399"/>
                          </a:lnTo>
                          <a:lnTo>
                            <a:pt x="254" y="393"/>
                          </a:lnTo>
                          <a:lnTo>
                            <a:pt x="196" y="391"/>
                          </a:lnTo>
                          <a:lnTo>
                            <a:pt x="0" y="333"/>
                          </a:lnTo>
                          <a:lnTo>
                            <a:pt x="24" y="194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9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2435040" y="4729320"/>
                      <a:ext cx="11520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22">
                          <a:moveTo>
                            <a:pt x="0" y="0"/>
                          </a:moveTo>
                          <a:lnTo>
                            <a:pt x="42" y="20"/>
                          </a:lnTo>
                          <a:lnTo>
                            <a:pt x="60" y="20"/>
                          </a:lnTo>
                          <a:lnTo>
                            <a:pt x="82" y="22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1981440" y="4398480"/>
                    <a:ext cx="725040" cy="635040"/>
                    <a:chOff x="1981440" y="4398480"/>
                    <a:chExt cx="725040" cy="63504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1981440" y="4398480"/>
                      <a:ext cx="725040" cy="63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610">
                          <a:moveTo>
                            <a:pt x="186" y="0"/>
                          </a:moveTo>
                          <a:lnTo>
                            <a:pt x="269" y="16"/>
                          </a:lnTo>
                          <a:lnTo>
                            <a:pt x="265" y="35"/>
                          </a:lnTo>
                          <a:lnTo>
                            <a:pt x="256" y="57"/>
                          </a:lnTo>
                          <a:lnTo>
                            <a:pt x="247" y="76"/>
                          </a:lnTo>
                          <a:lnTo>
                            <a:pt x="234" y="98"/>
                          </a:lnTo>
                          <a:lnTo>
                            <a:pt x="220" y="118"/>
                          </a:lnTo>
                          <a:lnTo>
                            <a:pt x="206" y="136"/>
                          </a:lnTo>
                          <a:lnTo>
                            <a:pt x="197" y="161"/>
                          </a:lnTo>
                          <a:lnTo>
                            <a:pt x="181" y="196"/>
                          </a:lnTo>
                          <a:lnTo>
                            <a:pt x="165" y="228"/>
                          </a:lnTo>
                          <a:lnTo>
                            <a:pt x="159" y="239"/>
                          </a:lnTo>
                          <a:lnTo>
                            <a:pt x="155" y="252"/>
                          </a:lnTo>
                          <a:lnTo>
                            <a:pt x="152" y="268"/>
                          </a:lnTo>
                          <a:lnTo>
                            <a:pt x="149" y="286"/>
                          </a:lnTo>
                          <a:lnTo>
                            <a:pt x="146" y="304"/>
                          </a:lnTo>
                          <a:lnTo>
                            <a:pt x="147" y="320"/>
                          </a:lnTo>
                          <a:lnTo>
                            <a:pt x="152" y="333"/>
                          </a:lnTo>
                          <a:lnTo>
                            <a:pt x="162" y="344"/>
                          </a:lnTo>
                          <a:lnTo>
                            <a:pt x="184" y="349"/>
                          </a:lnTo>
                          <a:lnTo>
                            <a:pt x="206" y="357"/>
                          </a:lnTo>
                          <a:lnTo>
                            <a:pt x="229" y="366"/>
                          </a:lnTo>
                          <a:lnTo>
                            <a:pt x="256" y="377"/>
                          </a:lnTo>
                          <a:lnTo>
                            <a:pt x="272" y="379"/>
                          </a:lnTo>
                          <a:lnTo>
                            <a:pt x="289" y="383"/>
                          </a:lnTo>
                          <a:lnTo>
                            <a:pt x="305" y="389"/>
                          </a:lnTo>
                          <a:lnTo>
                            <a:pt x="321" y="396"/>
                          </a:lnTo>
                          <a:lnTo>
                            <a:pt x="334" y="405"/>
                          </a:lnTo>
                          <a:lnTo>
                            <a:pt x="347" y="416"/>
                          </a:lnTo>
                          <a:lnTo>
                            <a:pt x="356" y="413"/>
                          </a:lnTo>
                          <a:lnTo>
                            <a:pt x="367" y="412"/>
                          </a:lnTo>
                          <a:lnTo>
                            <a:pt x="374" y="415"/>
                          </a:lnTo>
                          <a:lnTo>
                            <a:pt x="378" y="419"/>
                          </a:lnTo>
                          <a:lnTo>
                            <a:pt x="384" y="428"/>
                          </a:lnTo>
                          <a:lnTo>
                            <a:pt x="404" y="429"/>
                          </a:lnTo>
                          <a:lnTo>
                            <a:pt x="432" y="432"/>
                          </a:lnTo>
                          <a:lnTo>
                            <a:pt x="463" y="436"/>
                          </a:lnTo>
                          <a:lnTo>
                            <a:pt x="490" y="438"/>
                          </a:lnTo>
                          <a:lnTo>
                            <a:pt x="507" y="441"/>
                          </a:lnTo>
                          <a:lnTo>
                            <a:pt x="514" y="445"/>
                          </a:lnTo>
                          <a:lnTo>
                            <a:pt x="516" y="451"/>
                          </a:lnTo>
                          <a:lnTo>
                            <a:pt x="514" y="456"/>
                          </a:lnTo>
                          <a:lnTo>
                            <a:pt x="505" y="462"/>
                          </a:lnTo>
                          <a:lnTo>
                            <a:pt x="490" y="468"/>
                          </a:lnTo>
                          <a:lnTo>
                            <a:pt x="470" y="475"/>
                          </a:lnTo>
                          <a:lnTo>
                            <a:pt x="452" y="478"/>
                          </a:lnTo>
                          <a:lnTo>
                            <a:pt x="435" y="479"/>
                          </a:lnTo>
                          <a:lnTo>
                            <a:pt x="421" y="480"/>
                          </a:lnTo>
                          <a:lnTo>
                            <a:pt x="443" y="492"/>
                          </a:lnTo>
                          <a:lnTo>
                            <a:pt x="459" y="501"/>
                          </a:lnTo>
                          <a:lnTo>
                            <a:pt x="470" y="509"/>
                          </a:lnTo>
                          <a:lnTo>
                            <a:pt x="476" y="518"/>
                          </a:lnTo>
                          <a:lnTo>
                            <a:pt x="475" y="528"/>
                          </a:lnTo>
                          <a:lnTo>
                            <a:pt x="470" y="533"/>
                          </a:lnTo>
                          <a:lnTo>
                            <a:pt x="462" y="536"/>
                          </a:lnTo>
                          <a:lnTo>
                            <a:pt x="448" y="537"/>
                          </a:lnTo>
                          <a:lnTo>
                            <a:pt x="429" y="535"/>
                          </a:lnTo>
                          <a:lnTo>
                            <a:pt x="410" y="532"/>
                          </a:lnTo>
                          <a:lnTo>
                            <a:pt x="400" y="531"/>
                          </a:lnTo>
                          <a:lnTo>
                            <a:pt x="393" y="533"/>
                          </a:lnTo>
                          <a:lnTo>
                            <a:pt x="389" y="538"/>
                          </a:lnTo>
                          <a:lnTo>
                            <a:pt x="391" y="544"/>
                          </a:lnTo>
                          <a:lnTo>
                            <a:pt x="397" y="550"/>
                          </a:lnTo>
                          <a:lnTo>
                            <a:pt x="405" y="559"/>
                          </a:lnTo>
                          <a:lnTo>
                            <a:pt x="421" y="576"/>
                          </a:lnTo>
                          <a:lnTo>
                            <a:pt x="430" y="589"/>
                          </a:lnTo>
                          <a:lnTo>
                            <a:pt x="430" y="598"/>
                          </a:lnTo>
                          <a:lnTo>
                            <a:pt x="426" y="606"/>
                          </a:lnTo>
                          <a:lnTo>
                            <a:pt x="419" y="609"/>
                          </a:lnTo>
                          <a:lnTo>
                            <a:pt x="409" y="610"/>
                          </a:lnTo>
                          <a:lnTo>
                            <a:pt x="388" y="605"/>
                          </a:lnTo>
                          <a:lnTo>
                            <a:pt x="367" y="601"/>
                          </a:lnTo>
                          <a:lnTo>
                            <a:pt x="348" y="598"/>
                          </a:lnTo>
                          <a:lnTo>
                            <a:pt x="314" y="587"/>
                          </a:lnTo>
                          <a:lnTo>
                            <a:pt x="287" y="573"/>
                          </a:lnTo>
                          <a:lnTo>
                            <a:pt x="255" y="555"/>
                          </a:lnTo>
                          <a:lnTo>
                            <a:pt x="232" y="540"/>
                          </a:lnTo>
                          <a:lnTo>
                            <a:pt x="207" y="524"/>
                          </a:lnTo>
                          <a:lnTo>
                            <a:pt x="181" y="505"/>
                          </a:lnTo>
                          <a:lnTo>
                            <a:pt x="156" y="486"/>
                          </a:lnTo>
                          <a:lnTo>
                            <a:pt x="125" y="465"/>
                          </a:lnTo>
                          <a:lnTo>
                            <a:pt x="99" y="450"/>
                          </a:lnTo>
                          <a:lnTo>
                            <a:pt x="66" y="432"/>
                          </a:lnTo>
                          <a:lnTo>
                            <a:pt x="40" y="416"/>
                          </a:lnTo>
                          <a:lnTo>
                            <a:pt x="25" y="405"/>
                          </a:lnTo>
                          <a:lnTo>
                            <a:pt x="11" y="394"/>
                          </a:lnTo>
                          <a:lnTo>
                            <a:pt x="1" y="379"/>
                          </a:lnTo>
                          <a:lnTo>
                            <a:pt x="0" y="365"/>
                          </a:lnTo>
                          <a:lnTo>
                            <a:pt x="4" y="352"/>
                          </a:lnTo>
                          <a:lnTo>
                            <a:pt x="14" y="341"/>
                          </a:lnTo>
                          <a:lnTo>
                            <a:pt x="32" y="328"/>
                          </a:lnTo>
                          <a:lnTo>
                            <a:pt x="66" y="280"/>
                          </a:lnTo>
                          <a:lnTo>
                            <a:pt x="90" y="246"/>
                          </a:lnTo>
                          <a:lnTo>
                            <a:pt x="102" y="220"/>
                          </a:lnTo>
                          <a:lnTo>
                            <a:pt x="167" y="49"/>
                          </a:lnTo>
                          <a:lnTo>
                            <a:pt x="186" y="0"/>
                          </a:lnTo>
                          <a:close/>
                        </a:path>
                      </a:pathLst>
                    </a:custGeom>
                    <a:solidFill>
                      <a:srgbClr val="ffbf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2059920" y="4710600"/>
                      <a:ext cx="470160" cy="176760"/>
                      <a:chOff x="2059920" y="4710600"/>
                      <a:chExt cx="470160" cy="17676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2437560" y="4832280"/>
                        <a:ext cx="378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53">
                            <a:moveTo>
                              <a:pt x="22" y="0"/>
                            </a:moveTo>
                            <a:lnTo>
                              <a:pt x="25" y="7"/>
                            </a:lnTo>
                            <a:lnTo>
                              <a:pt x="27" y="15"/>
                            </a:lnTo>
                            <a:lnTo>
                              <a:pt x="26" y="24"/>
                            </a:lnTo>
                            <a:lnTo>
                              <a:pt x="22" y="36"/>
                            </a:lnTo>
                            <a:lnTo>
                              <a:pt x="18" y="42"/>
                            </a:lnTo>
                            <a:lnTo>
                              <a:pt x="10" y="48"/>
                            </a:lnTo>
                            <a:lnTo>
                              <a:pt x="0" y="53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2499480" y="4843800"/>
                        <a:ext cx="30600" cy="42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1">
                            <a:moveTo>
                              <a:pt x="15" y="0"/>
                            </a:moveTo>
                            <a:lnTo>
                              <a:pt x="20" y="10"/>
                            </a:lnTo>
                            <a:lnTo>
                              <a:pt x="22" y="16"/>
                            </a:lnTo>
                            <a:lnTo>
                              <a:pt x="20" y="23"/>
                            </a:lnTo>
                            <a:lnTo>
                              <a:pt x="16" y="29"/>
                            </a:lnTo>
                            <a:lnTo>
                              <a:pt x="10" y="34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" bIns="-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2059920" y="4710600"/>
                        <a:ext cx="5472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101">
                            <a:moveTo>
                              <a:pt x="39" y="0"/>
                            </a:moveTo>
                            <a:lnTo>
                              <a:pt x="27" y="11"/>
                            </a:lnTo>
                            <a:lnTo>
                              <a:pt x="15" y="26"/>
                            </a:lnTo>
                            <a:lnTo>
                              <a:pt x="8" y="40"/>
                            </a:lnTo>
                            <a:lnTo>
                              <a:pt x="3" y="50"/>
                            </a:lnTo>
                            <a:lnTo>
                              <a:pt x="0" y="62"/>
                            </a:lnTo>
                            <a:lnTo>
                              <a:pt x="0" y="73"/>
                            </a:lnTo>
                            <a:lnTo>
                              <a:pt x="3" y="85"/>
                            </a:lnTo>
                            <a:lnTo>
                              <a:pt x="11" y="10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1667880" y="2997360"/>
                  <a:ext cx="1495080" cy="1468440"/>
                  <a:chOff x="1667880" y="2997360"/>
                  <a:chExt cx="1495080" cy="146844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1667880" y="2997360"/>
                    <a:ext cx="1495080" cy="1468440"/>
                    <a:chOff x="1667880" y="2997360"/>
                    <a:chExt cx="1495080" cy="1468440"/>
                  </a:xfrm>
                </p:grpSpPr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1667880" y="3128400"/>
                      <a:ext cx="461880" cy="383760"/>
                      <a:chOff x="1667880" y="3128400"/>
                      <a:chExt cx="461880" cy="383760"/>
                    </a:xfrm>
                  </p:grpSpPr>
                  <p:grpSp>
                    <p:nvGrpSpPr>
                      <p:cNvPr id="223" name=""/>
                      <p:cNvGrpSpPr/>
                      <p:nvPr/>
                    </p:nvGrpSpPr>
                    <p:grpSpPr>
                      <a:xfrm>
                        <a:off x="1667880" y="3267720"/>
                        <a:ext cx="341280" cy="217440"/>
                        <a:chOff x="1667880" y="3267720"/>
                        <a:chExt cx="341280" cy="217440"/>
                      </a:xfrm>
                    </p:grpSpPr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1667880" y="3267720"/>
                          <a:ext cx="341280" cy="21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3" h="209">
                              <a:moveTo>
                                <a:pt x="140" y="0"/>
                              </a:moveTo>
                              <a:lnTo>
                                <a:pt x="92" y="8"/>
                              </a:lnTo>
                              <a:lnTo>
                                <a:pt x="83" y="12"/>
                              </a:lnTo>
                              <a:lnTo>
                                <a:pt x="93" y="42"/>
                              </a:lnTo>
                              <a:lnTo>
                                <a:pt x="78" y="42"/>
                              </a:lnTo>
                              <a:lnTo>
                                <a:pt x="72" y="45"/>
                              </a:lnTo>
                              <a:lnTo>
                                <a:pt x="66" y="87"/>
                              </a:lnTo>
                              <a:lnTo>
                                <a:pt x="56" y="84"/>
                              </a:lnTo>
                              <a:lnTo>
                                <a:pt x="31" y="96"/>
                              </a:lnTo>
                              <a:lnTo>
                                <a:pt x="5" y="117"/>
                              </a:lnTo>
                              <a:lnTo>
                                <a:pt x="0" y="138"/>
                              </a:lnTo>
                              <a:lnTo>
                                <a:pt x="6" y="158"/>
                              </a:lnTo>
                              <a:lnTo>
                                <a:pt x="17" y="170"/>
                              </a:lnTo>
                              <a:lnTo>
                                <a:pt x="26" y="177"/>
                              </a:lnTo>
                              <a:lnTo>
                                <a:pt x="41" y="173"/>
                              </a:lnTo>
                              <a:lnTo>
                                <a:pt x="59" y="171"/>
                              </a:lnTo>
                              <a:lnTo>
                                <a:pt x="75" y="174"/>
                              </a:lnTo>
                              <a:lnTo>
                                <a:pt x="92" y="179"/>
                              </a:lnTo>
                              <a:lnTo>
                                <a:pt x="110" y="189"/>
                              </a:lnTo>
                              <a:lnTo>
                                <a:pt x="131" y="209"/>
                              </a:lnTo>
                              <a:lnTo>
                                <a:pt x="188" y="207"/>
                              </a:lnTo>
                              <a:lnTo>
                                <a:pt x="243" y="189"/>
                              </a:lnTo>
                              <a:lnTo>
                                <a:pt x="158" y="0"/>
                              </a:lnTo>
                              <a:lnTo>
                                <a:pt x="1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>
                          <a:off x="1763280" y="3358080"/>
                          <a:ext cx="129240" cy="28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1797120" y="3310200"/>
                          <a:ext cx="96480" cy="11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1860120" y="3342600"/>
                        <a:ext cx="1321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140">
                            <a:moveTo>
                              <a:pt x="0" y="12"/>
                            </a:moveTo>
                            <a:lnTo>
                              <a:pt x="49" y="0"/>
                            </a:lnTo>
                            <a:lnTo>
                              <a:pt x="94" y="125"/>
                            </a:lnTo>
                            <a:lnTo>
                              <a:pt x="39" y="14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dfd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1815120" y="3382200"/>
                        <a:ext cx="13032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125">
                            <a:moveTo>
                              <a:pt x="59" y="0"/>
                            </a:moveTo>
                            <a:lnTo>
                              <a:pt x="30" y="1"/>
                            </a:lnTo>
                            <a:lnTo>
                              <a:pt x="12" y="25"/>
                            </a:lnTo>
                            <a:lnTo>
                              <a:pt x="9" y="37"/>
                            </a:lnTo>
                            <a:lnTo>
                              <a:pt x="12" y="49"/>
                            </a:lnTo>
                            <a:lnTo>
                              <a:pt x="27" y="67"/>
                            </a:lnTo>
                            <a:lnTo>
                              <a:pt x="9" y="85"/>
                            </a:lnTo>
                            <a:lnTo>
                              <a:pt x="0" y="99"/>
                            </a:lnTo>
                            <a:lnTo>
                              <a:pt x="5" y="113"/>
                            </a:lnTo>
                            <a:lnTo>
                              <a:pt x="14" y="125"/>
                            </a:lnTo>
                            <a:lnTo>
                              <a:pt x="41" y="123"/>
                            </a:lnTo>
                            <a:lnTo>
                              <a:pt x="71" y="114"/>
                            </a:lnTo>
                            <a:lnTo>
                              <a:pt x="83" y="99"/>
                            </a:lnTo>
                            <a:lnTo>
                              <a:pt x="93" y="25"/>
                            </a:lnTo>
                            <a:lnTo>
                              <a:pt x="71" y="16"/>
                            </a:lnTo>
                            <a:lnTo>
                              <a:pt x="5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1828080" y="3128400"/>
                        <a:ext cx="301680" cy="24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5" h="234">
                            <a:moveTo>
                              <a:pt x="89" y="224"/>
                            </a:moveTo>
                            <a:lnTo>
                              <a:pt x="62" y="233"/>
                            </a:lnTo>
                            <a:lnTo>
                              <a:pt x="53" y="234"/>
                            </a:lnTo>
                            <a:lnTo>
                              <a:pt x="45" y="231"/>
                            </a:lnTo>
                            <a:lnTo>
                              <a:pt x="39" y="222"/>
                            </a:lnTo>
                            <a:lnTo>
                              <a:pt x="12" y="179"/>
                            </a:lnTo>
                            <a:lnTo>
                              <a:pt x="0" y="143"/>
                            </a:lnTo>
                            <a:lnTo>
                              <a:pt x="5" y="101"/>
                            </a:lnTo>
                            <a:lnTo>
                              <a:pt x="14" y="62"/>
                            </a:lnTo>
                            <a:lnTo>
                              <a:pt x="21" y="62"/>
                            </a:lnTo>
                            <a:lnTo>
                              <a:pt x="39" y="68"/>
                            </a:lnTo>
                            <a:lnTo>
                              <a:pt x="68" y="83"/>
                            </a:lnTo>
                            <a:lnTo>
                              <a:pt x="71" y="54"/>
                            </a:lnTo>
                            <a:lnTo>
                              <a:pt x="77" y="39"/>
                            </a:lnTo>
                            <a:lnTo>
                              <a:pt x="93" y="32"/>
                            </a:lnTo>
                            <a:lnTo>
                              <a:pt x="114" y="29"/>
                            </a:lnTo>
                            <a:lnTo>
                              <a:pt x="140" y="29"/>
                            </a:lnTo>
                            <a:lnTo>
                              <a:pt x="143" y="18"/>
                            </a:lnTo>
                            <a:lnTo>
                              <a:pt x="146" y="9"/>
                            </a:lnTo>
                            <a:lnTo>
                              <a:pt x="155" y="1"/>
                            </a:lnTo>
                            <a:lnTo>
                              <a:pt x="168" y="0"/>
                            </a:lnTo>
                            <a:lnTo>
                              <a:pt x="191" y="3"/>
                            </a:lnTo>
                            <a:lnTo>
                              <a:pt x="176" y="19"/>
                            </a:lnTo>
                            <a:lnTo>
                              <a:pt x="191" y="45"/>
                            </a:lnTo>
                            <a:lnTo>
                              <a:pt x="215" y="74"/>
                            </a:lnTo>
                            <a:lnTo>
                              <a:pt x="89" y="22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2202120" y="2997360"/>
                      <a:ext cx="960840" cy="599040"/>
                      <a:chOff x="2202120" y="2997360"/>
                      <a:chExt cx="960840" cy="599040"/>
                    </a:xfrm>
                  </p:grpSpPr>
                  <p:grpSp>
                    <p:nvGrpSpPr>
                      <p:cNvPr id="231" name=""/>
                      <p:cNvGrpSpPr/>
                      <p:nvPr/>
                    </p:nvGrpSpPr>
                    <p:grpSpPr>
                      <a:xfrm>
                        <a:off x="2202120" y="2997360"/>
                        <a:ext cx="587160" cy="599040"/>
                        <a:chOff x="2202120" y="2997360"/>
                        <a:chExt cx="587160" cy="599040"/>
                      </a:xfrm>
                    </p:grpSpPr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>
                          <a:off x="2202120" y="2997360"/>
                          <a:ext cx="587160" cy="59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8" h="575">
                              <a:moveTo>
                                <a:pt x="17" y="192"/>
                              </a:moveTo>
                              <a:lnTo>
                                <a:pt x="40" y="148"/>
                              </a:lnTo>
                              <a:lnTo>
                                <a:pt x="71" y="103"/>
                              </a:lnTo>
                              <a:lnTo>
                                <a:pt x="101" y="60"/>
                              </a:lnTo>
                              <a:lnTo>
                                <a:pt x="167" y="24"/>
                              </a:lnTo>
                              <a:lnTo>
                                <a:pt x="159" y="64"/>
                              </a:lnTo>
                              <a:lnTo>
                                <a:pt x="225" y="0"/>
                              </a:lnTo>
                              <a:lnTo>
                                <a:pt x="216" y="21"/>
                              </a:lnTo>
                              <a:lnTo>
                                <a:pt x="210" y="48"/>
                              </a:lnTo>
                              <a:lnTo>
                                <a:pt x="263" y="0"/>
                              </a:lnTo>
                              <a:lnTo>
                                <a:pt x="218" y="66"/>
                              </a:lnTo>
                              <a:lnTo>
                                <a:pt x="212" y="91"/>
                              </a:lnTo>
                              <a:lnTo>
                                <a:pt x="237" y="60"/>
                              </a:lnTo>
                              <a:lnTo>
                                <a:pt x="285" y="39"/>
                              </a:lnTo>
                              <a:lnTo>
                                <a:pt x="332" y="37"/>
                              </a:lnTo>
                              <a:lnTo>
                                <a:pt x="284" y="66"/>
                              </a:lnTo>
                              <a:lnTo>
                                <a:pt x="266" y="102"/>
                              </a:lnTo>
                              <a:lnTo>
                                <a:pt x="269" y="122"/>
                              </a:lnTo>
                              <a:lnTo>
                                <a:pt x="284" y="123"/>
                              </a:lnTo>
                              <a:lnTo>
                                <a:pt x="308" y="135"/>
                              </a:lnTo>
                              <a:lnTo>
                                <a:pt x="342" y="161"/>
                              </a:lnTo>
                              <a:lnTo>
                                <a:pt x="335" y="173"/>
                              </a:lnTo>
                              <a:lnTo>
                                <a:pt x="333" y="183"/>
                              </a:lnTo>
                              <a:lnTo>
                                <a:pt x="338" y="198"/>
                              </a:lnTo>
                              <a:lnTo>
                                <a:pt x="347" y="210"/>
                              </a:lnTo>
                              <a:lnTo>
                                <a:pt x="362" y="222"/>
                              </a:lnTo>
                              <a:lnTo>
                                <a:pt x="382" y="231"/>
                              </a:lnTo>
                              <a:lnTo>
                                <a:pt x="401" y="237"/>
                              </a:lnTo>
                              <a:lnTo>
                                <a:pt x="418" y="240"/>
                              </a:lnTo>
                              <a:lnTo>
                                <a:pt x="395" y="267"/>
                              </a:lnTo>
                              <a:lnTo>
                                <a:pt x="379" y="294"/>
                              </a:lnTo>
                              <a:lnTo>
                                <a:pt x="362" y="324"/>
                              </a:lnTo>
                              <a:lnTo>
                                <a:pt x="347" y="355"/>
                              </a:lnTo>
                              <a:lnTo>
                                <a:pt x="333" y="388"/>
                              </a:lnTo>
                              <a:lnTo>
                                <a:pt x="306" y="404"/>
                              </a:lnTo>
                              <a:lnTo>
                                <a:pt x="265" y="407"/>
                              </a:lnTo>
                              <a:lnTo>
                                <a:pt x="237" y="398"/>
                              </a:lnTo>
                              <a:lnTo>
                                <a:pt x="219" y="392"/>
                              </a:lnTo>
                              <a:lnTo>
                                <a:pt x="202" y="402"/>
                              </a:lnTo>
                              <a:lnTo>
                                <a:pt x="207" y="436"/>
                              </a:lnTo>
                              <a:lnTo>
                                <a:pt x="224" y="474"/>
                              </a:lnTo>
                              <a:lnTo>
                                <a:pt x="234" y="499"/>
                              </a:lnTo>
                              <a:lnTo>
                                <a:pt x="234" y="520"/>
                              </a:lnTo>
                              <a:lnTo>
                                <a:pt x="216" y="575"/>
                              </a:lnTo>
                              <a:lnTo>
                                <a:pt x="12" y="553"/>
                              </a:lnTo>
                              <a:lnTo>
                                <a:pt x="3" y="383"/>
                              </a:lnTo>
                              <a:lnTo>
                                <a:pt x="0" y="284"/>
                              </a:lnTo>
                              <a:lnTo>
                                <a:pt x="6" y="228"/>
                              </a:lnTo>
                              <a:lnTo>
                                <a:pt x="17" y="1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>
                          <a:off x="2579760" y="3159720"/>
                          <a:ext cx="9252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17">
                              <a:moveTo>
                                <a:pt x="66" y="17"/>
                              </a:moveTo>
                              <a:lnTo>
                                <a:pt x="54" y="11"/>
                              </a:lnTo>
                              <a:lnTo>
                                <a:pt x="39" y="5"/>
                              </a:lnTo>
                              <a:lnTo>
                                <a:pt x="27" y="0"/>
                              </a:lnTo>
                              <a:lnTo>
                                <a:pt x="13" y="3"/>
                              </a:lnTo>
                              <a:lnTo>
                                <a:pt x="0" y="12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2459160" y="3244320"/>
                        <a:ext cx="703800" cy="292680"/>
                        <a:chOff x="2459160" y="3244320"/>
                        <a:chExt cx="703800" cy="29268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2459160" y="3244320"/>
                          <a:ext cx="703800" cy="29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1" h="281">
                              <a:moveTo>
                                <a:pt x="0" y="164"/>
                              </a:moveTo>
                              <a:lnTo>
                                <a:pt x="49" y="132"/>
                              </a:lnTo>
                              <a:lnTo>
                                <a:pt x="115" y="153"/>
                              </a:lnTo>
                              <a:lnTo>
                                <a:pt x="154" y="128"/>
                              </a:lnTo>
                              <a:lnTo>
                                <a:pt x="183" y="77"/>
                              </a:lnTo>
                              <a:lnTo>
                                <a:pt x="215" y="30"/>
                              </a:lnTo>
                              <a:lnTo>
                                <a:pt x="230" y="0"/>
                              </a:lnTo>
                              <a:lnTo>
                                <a:pt x="263" y="3"/>
                              </a:lnTo>
                              <a:lnTo>
                                <a:pt x="285" y="11"/>
                              </a:lnTo>
                              <a:lnTo>
                                <a:pt x="303" y="33"/>
                              </a:lnTo>
                              <a:lnTo>
                                <a:pt x="326" y="63"/>
                              </a:lnTo>
                              <a:lnTo>
                                <a:pt x="350" y="90"/>
                              </a:lnTo>
                              <a:lnTo>
                                <a:pt x="384" y="117"/>
                              </a:lnTo>
                              <a:lnTo>
                                <a:pt x="419" y="141"/>
                              </a:lnTo>
                              <a:lnTo>
                                <a:pt x="446" y="159"/>
                              </a:lnTo>
                              <a:lnTo>
                                <a:pt x="465" y="168"/>
                              </a:lnTo>
                              <a:lnTo>
                                <a:pt x="482" y="172"/>
                              </a:lnTo>
                              <a:lnTo>
                                <a:pt x="501" y="168"/>
                              </a:lnTo>
                              <a:lnTo>
                                <a:pt x="500" y="191"/>
                              </a:lnTo>
                              <a:lnTo>
                                <a:pt x="494" y="215"/>
                              </a:lnTo>
                              <a:lnTo>
                                <a:pt x="476" y="243"/>
                              </a:lnTo>
                              <a:lnTo>
                                <a:pt x="458" y="265"/>
                              </a:lnTo>
                              <a:lnTo>
                                <a:pt x="440" y="275"/>
                              </a:lnTo>
                              <a:lnTo>
                                <a:pt x="419" y="266"/>
                              </a:lnTo>
                              <a:lnTo>
                                <a:pt x="396" y="253"/>
                              </a:lnTo>
                              <a:lnTo>
                                <a:pt x="371" y="242"/>
                              </a:lnTo>
                              <a:lnTo>
                                <a:pt x="342" y="233"/>
                              </a:lnTo>
                              <a:lnTo>
                                <a:pt x="320" y="248"/>
                              </a:lnTo>
                              <a:lnTo>
                                <a:pt x="290" y="266"/>
                              </a:lnTo>
                              <a:lnTo>
                                <a:pt x="269" y="250"/>
                              </a:lnTo>
                              <a:lnTo>
                                <a:pt x="234" y="228"/>
                              </a:lnTo>
                              <a:lnTo>
                                <a:pt x="212" y="240"/>
                              </a:lnTo>
                              <a:lnTo>
                                <a:pt x="181" y="254"/>
                              </a:lnTo>
                              <a:lnTo>
                                <a:pt x="141" y="263"/>
                              </a:lnTo>
                              <a:lnTo>
                                <a:pt x="88" y="275"/>
                              </a:lnTo>
                              <a:lnTo>
                                <a:pt x="48" y="281"/>
                              </a:lnTo>
                              <a:lnTo>
                                <a:pt x="28" y="253"/>
                              </a:lnTo>
                              <a:lnTo>
                                <a:pt x="21" y="236"/>
                              </a:lnTo>
                              <a:lnTo>
                                <a:pt x="7" y="197"/>
                              </a:lnTo>
                              <a:lnTo>
                                <a:pt x="0" y="1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f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36" name=""/>
                        <p:cNvGrpSpPr/>
                        <p:nvPr/>
                      </p:nvGrpSpPr>
                      <p:grpSpPr>
                        <a:xfrm>
                          <a:off x="2548800" y="3349440"/>
                          <a:ext cx="568080" cy="146520"/>
                          <a:chOff x="2548800" y="3349440"/>
                          <a:chExt cx="568080" cy="146520"/>
                        </a:xfrm>
                      </p:grpSpPr>
                      <p:sp>
                        <p:nvSpPr>
                          <p:cNvPr id="237" name=""/>
                          <p:cNvSpPr/>
                          <p:nvPr/>
                        </p:nvSpPr>
                        <p:spPr>
                          <a:xfrm>
                            <a:off x="2838240" y="3349440"/>
                            <a:ext cx="57240" cy="3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" h="30">
                                <a:moveTo>
                                  <a:pt x="8" y="0"/>
                                </a:moveTo>
                                <a:lnTo>
                                  <a:pt x="41" y="19"/>
                                </a:lnTo>
                                <a:lnTo>
                                  <a:pt x="0" y="30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840" bIns="-15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8" name=""/>
                          <p:cNvSpPr/>
                          <p:nvPr/>
                        </p:nvSpPr>
                        <p:spPr>
                          <a:xfrm flipH="1">
                            <a:off x="3063960" y="3424320"/>
                            <a:ext cx="52920" cy="2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960" bIns="-21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9" name=""/>
                          <p:cNvSpPr/>
                          <p:nvPr/>
                        </p:nvSpPr>
                        <p:spPr>
                          <a:xfrm>
                            <a:off x="2548800" y="3449160"/>
                            <a:ext cx="70200" cy="46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" h="45">
                                <a:moveTo>
                                  <a:pt x="50" y="0"/>
                                </a:moveTo>
                                <a:lnTo>
                                  <a:pt x="27" y="10"/>
                                </a:lnTo>
                                <a:lnTo>
                                  <a:pt x="15" y="21"/>
                                </a:lnTo>
                                <a:lnTo>
                                  <a:pt x="8" y="31"/>
                                </a:lnTo>
                                <a:lnTo>
                                  <a:pt x="0" y="45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0" bIns="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0" name=""/>
                          <p:cNvSpPr/>
                          <p:nvPr/>
                        </p:nvSpPr>
                        <p:spPr>
                          <a:xfrm>
                            <a:off x="2569680" y="3449160"/>
                            <a:ext cx="369360" cy="35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34">
                                <a:moveTo>
                                  <a:pt x="0" y="25"/>
                                </a:moveTo>
                                <a:lnTo>
                                  <a:pt x="33" y="16"/>
                                </a:lnTo>
                                <a:lnTo>
                                  <a:pt x="72" y="9"/>
                                </a:lnTo>
                                <a:lnTo>
                                  <a:pt x="105" y="2"/>
                                </a:lnTo>
                                <a:lnTo>
                                  <a:pt x="134" y="0"/>
                                </a:lnTo>
                                <a:lnTo>
                                  <a:pt x="164" y="3"/>
                                </a:lnTo>
                                <a:lnTo>
                                  <a:pt x="194" y="9"/>
                                </a:lnTo>
                                <a:lnTo>
                                  <a:pt x="226" y="18"/>
                                </a:lnTo>
                                <a:lnTo>
                                  <a:pt x="263" y="34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1890000" y="3905640"/>
                      <a:ext cx="778680" cy="560160"/>
                      <a:chOff x="1890000" y="3905640"/>
                      <a:chExt cx="778680" cy="56016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2328480" y="4250160"/>
                        <a:ext cx="230400" cy="20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4" h="193">
                            <a:moveTo>
                              <a:pt x="110" y="0"/>
                            </a:moveTo>
                            <a:lnTo>
                              <a:pt x="164" y="0"/>
                            </a:lnTo>
                            <a:lnTo>
                              <a:pt x="159" y="28"/>
                            </a:lnTo>
                            <a:lnTo>
                              <a:pt x="153" y="58"/>
                            </a:lnTo>
                            <a:lnTo>
                              <a:pt x="141" y="85"/>
                            </a:lnTo>
                            <a:lnTo>
                              <a:pt x="125" y="108"/>
                            </a:lnTo>
                            <a:lnTo>
                              <a:pt x="102" y="132"/>
                            </a:lnTo>
                            <a:lnTo>
                              <a:pt x="80" y="151"/>
                            </a:lnTo>
                            <a:lnTo>
                              <a:pt x="56" y="177"/>
                            </a:lnTo>
                            <a:lnTo>
                              <a:pt x="44" y="189"/>
                            </a:lnTo>
                            <a:lnTo>
                              <a:pt x="35" y="192"/>
                            </a:lnTo>
                            <a:lnTo>
                              <a:pt x="21" y="193"/>
                            </a:lnTo>
                            <a:lnTo>
                              <a:pt x="0" y="177"/>
                            </a:lnTo>
                            <a:lnTo>
                              <a:pt x="110" y="0"/>
                            </a:lnTo>
                            <a:close/>
                          </a:path>
                        </a:pathLst>
                      </a:custGeom>
                      <a:solidFill>
                        <a:srgbClr val="dfd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1890000" y="3905640"/>
                        <a:ext cx="778680" cy="56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4" h="538">
                            <a:moveTo>
                              <a:pt x="212" y="397"/>
                            </a:moveTo>
                            <a:lnTo>
                              <a:pt x="209" y="428"/>
                            </a:lnTo>
                            <a:lnTo>
                              <a:pt x="211" y="461"/>
                            </a:lnTo>
                            <a:lnTo>
                              <a:pt x="218" y="494"/>
                            </a:lnTo>
                            <a:lnTo>
                              <a:pt x="224" y="512"/>
                            </a:lnTo>
                            <a:lnTo>
                              <a:pt x="235" y="525"/>
                            </a:lnTo>
                            <a:lnTo>
                              <a:pt x="249" y="524"/>
                            </a:lnTo>
                            <a:lnTo>
                              <a:pt x="266" y="520"/>
                            </a:lnTo>
                            <a:lnTo>
                              <a:pt x="275" y="530"/>
                            </a:lnTo>
                            <a:lnTo>
                              <a:pt x="286" y="536"/>
                            </a:lnTo>
                            <a:lnTo>
                              <a:pt x="299" y="538"/>
                            </a:lnTo>
                            <a:lnTo>
                              <a:pt x="312" y="535"/>
                            </a:lnTo>
                            <a:lnTo>
                              <a:pt x="326" y="524"/>
                            </a:lnTo>
                            <a:lnTo>
                              <a:pt x="339" y="509"/>
                            </a:lnTo>
                            <a:lnTo>
                              <a:pt x="355" y="491"/>
                            </a:lnTo>
                            <a:lnTo>
                              <a:pt x="372" y="472"/>
                            </a:lnTo>
                            <a:lnTo>
                              <a:pt x="388" y="453"/>
                            </a:lnTo>
                            <a:lnTo>
                              <a:pt x="407" y="431"/>
                            </a:lnTo>
                            <a:lnTo>
                              <a:pt x="432" y="394"/>
                            </a:lnTo>
                            <a:lnTo>
                              <a:pt x="455" y="365"/>
                            </a:lnTo>
                            <a:lnTo>
                              <a:pt x="483" y="340"/>
                            </a:lnTo>
                            <a:lnTo>
                              <a:pt x="503" y="325"/>
                            </a:lnTo>
                            <a:lnTo>
                              <a:pt x="522" y="303"/>
                            </a:lnTo>
                            <a:lnTo>
                              <a:pt x="540" y="275"/>
                            </a:lnTo>
                            <a:lnTo>
                              <a:pt x="549" y="247"/>
                            </a:lnTo>
                            <a:lnTo>
                              <a:pt x="554" y="213"/>
                            </a:lnTo>
                            <a:lnTo>
                              <a:pt x="543" y="168"/>
                            </a:lnTo>
                            <a:lnTo>
                              <a:pt x="127" y="50"/>
                            </a:lnTo>
                            <a:lnTo>
                              <a:pt x="105" y="47"/>
                            </a:lnTo>
                            <a:lnTo>
                              <a:pt x="79" y="24"/>
                            </a:lnTo>
                            <a:lnTo>
                              <a:pt x="46" y="0"/>
                            </a:lnTo>
                            <a:lnTo>
                              <a:pt x="0" y="33"/>
                            </a:lnTo>
                            <a:lnTo>
                              <a:pt x="13" y="53"/>
                            </a:lnTo>
                            <a:lnTo>
                              <a:pt x="36" y="75"/>
                            </a:lnTo>
                            <a:lnTo>
                              <a:pt x="16" y="87"/>
                            </a:lnTo>
                            <a:lnTo>
                              <a:pt x="1" y="104"/>
                            </a:lnTo>
                            <a:lnTo>
                              <a:pt x="22" y="116"/>
                            </a:lnTo>
                            <a:lnTo>
                              <a:pt x="36" y="130"/>
                            </a:lnTo>
                            <a:lnTo>
                              <a:pt x="45" y="152"/>
                            </a:lnTo>
                            <a:lnTo>
                              <a:pt x="48" y="170"/>
                            </a:lnTo>
                            <a:lnTo>
                              <a:pt x="13" y="164"/>
                            </a:lnTo>
                            <a:lnTo>
                              <a:pt x="10" y="183"/>
                            </a:lnTo>
                            <a:lnTo>
                              <a:pt x="16" y="209"/>
                            </a:lnTo>
                            <a:lnTo>
                              <a:pt x="34" y="235"/>
                            </a:lnTo>
                            <a:lnTo>
                              <a:pt x="53" y="253"/>
                            </a:lnTo>
                            <a:lnTo>
                              <a:pt x="81" y="267"/>
                            </a:lnTo>
                            <a:lnTo>
                              <a:pt x="108" y="274"/>
                            </a:lnTo>
                            <a:lnTo>
                              <a:pt x="112" y="301"/>
                            </a:lnTo>
                            <a:lnTo>
                              <a:pt x="129" y="325"/>
                            </a:lnTo>
                            <a:lnTo>
                              <a:pt x="151" y="352"/>
                            </a:lnTo>
                            <a:lnTo>
                              <a:pt x="179" y="377"/>
                            </a:lnTo>
                            <a:lnTo>
                              <a:pt x="212" y="39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2287800" y="3129480"/>
                    <a:ext cx="561960" cy="272880"/>
                    <a:chOff x="2287800" y="3129480"/>
                    <a:chExt cx="561960" cy="27288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2287800" y="3222000"/>
                      <a:ext cx="41760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74">
                          <a:moveTo>
                            <a:pt x="0" y="53"/>
                          </a:moveTo>
                          <a:lnTo>
                            <a:pt x="21" y="26"/>
                          </a:lnTo>
                          <a:lnTo>
                            <a:pt x="48" y="4"/>
                          </a:lnTo>
                          <a:lnTo>
                            <a:pt x="70" y="0"/>
                          </a:lnTo>
                          <a:lnTo>
                            <a:pt x="297" y="29"/>
                          </a:lnTo>
                          <a:lnTo>
                            <a:pt x="291" y="59"/>
                          </a:lnTo>
                          <a:lnTo>
                            <a:pt x="246" y="57"/>
                          </a:lnTo>
                          <a:lnTo>
                            <a:pt x="143" y="53"/>
                          </a:lnTo>
                          <a:lnTo>
                            <a:pt x="76" y="50"/>
                          </a:lnTo>
                          <a:lnTo>
                            <a:pt x="63" y="54"/>
                          </a:lnTo>
                          <a:lnTo>
                            <a:pt x="45" y="74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2788200" y="3159360"/>
                      <a:ext cx="6156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10">
                          <a:moveTo>
                            <a:pt x="14" y="0"/>
                          </a:moveTo>
                          <a:lnTo>
                            <a:pt x="29" y="15"/>
                          </a:lnTo>
                          <a:lnTo>
                            <a:pt x="36" y="29"/>
                          </a:lnTo>
                          <a:lnTo>
                            <a:pt x="41" y="47"/>
                          </a:lnTo>
                          <a:lnTo>
                            <a:pt x="44" y="64"/>
                          </a:lnTo>
                          <a:lnTo>
                            <a:pt x="39" y="80"/>
                          </a:lnTo>
                          <a:lnTo>
                            <a:pt x="30" y="94"/>
                          </a:lnTo>
                          <a:lnTo>
                            <a:pt x="16" y="104"/>
                          </a:lnTo>
                          <a:lnTo>
                            <a:pt x="0" y="110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748600" y="3129480"/>
                      <a:ext cx="8136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143">
                          <a:moveTo>
                            <a:pt x="0" y="118"/>
                          </a:moveTo>
                          <a:lnTo>
                            <a:pt x="27" y="0"/>
                          </a:lnTo>
                          <a:lnTo>
                            <a:pt x="58" y="15"/>
                          </a:lnTo>
                          <a:lnTo>
                            <a:pt x="31" y="143"/>
                          </a:lnTo>
                          <a:lnTo>
                            <a:pt x="3" y="140"/>
                          </a:lnTo>
                          <a:lnTo>
                            <a:pt x="0" y="118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2709360" y="3156480"/>
                      <a:ext cx="79920" cy="23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25">
                          <a:moveTo>
                            <a:pt x="25" y="0"/>
                          </a:moveTo>
                          <a:lnTo>
                            <a:pt x="40" y="12"/>
                          </a:lnTo>
                          <a:lnTo>
                            <a:pt x="49" y="29"/>
                          </a:lnTo>
                          <a:lnTo>
                            <a:pt x="54" y="49"/>
                          </a:lnTo>
                          <a:lnTo>
                            <a:pt x="57" y="71"/>
                          </a:lnTo>
                          <a:lnTo>
                            <a:pt x="56" y="92"/>
                          </a:lnTo>
                          <a:lnTo>
                            <a:pt x="51" y="122"/>
                          </a:lnTo>
                          <a:lnTo>
                            <a:pt x="44" y="149"/>
                          </a:lnTo>
                          <a:lnTo>
                            <a:pt x="34" y="177"/>
                          </a:lnTo>
                          <a:lnTo>
                            <a:pt x="19" y="200"/>
                          </a:lnTo>
                          <a:lnTo>
                            <a:pt x="0" y="225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662920" y="3134880"/>
                      <a:ext cx="10404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257">
                          <a:moveTo>
                            <a:pt x="36" y="0"/>
                          </a:moveTo>
                          <a:lnTo>
                            <a:pt x="74" y="4"/>
                          </a:lnTo>
                          <a:lnTo>
                            <a:pt x="36" y="257"/>
                          </a:lnTo>
                          <a:lnTo>
                            <a:pt x="0" y="254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1910880" y="3179520"/>
                <a:ext cx="799200" cy="1054080"/>
                <a:chOff x="1910880" y="3179520"/>
                <a:chExt cx="799200" cy="105408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1910880" y="3179520"/>
                  <a:ext cx="799200" cy="1054080"/>
                  <a:chOff x="1910880" y="3179520"/>
                  <a:chExt cx="799200" cy="1054080"/>
                </a:xfrm>
              </p:grpSpPr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2309760" y="3551040"/>
                    <a:ext cx="348120" cy="190080"/>
                    <a:chOff x="2309760" y="3551040"/>
                    <a:chExt cx="348120" cy="19008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309760" y="3551040"/>
                      <a:ext cx="24300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117">
                          <a:moveTo>
                            <a:pt x="0" y="55"/>
                          </a:moveTo>
                          <a:lnTo>
                            <a:pt x="39" y="0"/>
                          </a:lnTo>
                          <a:lnTo>
                            <a:pt x="169" y="12"/>
                          </a:lnTo>
                          <a:lnTo>
                            <a:pt x="173" y="27"/>
                          </a:lnTo>
                          <a:lnTo>
                            <a:pt x="170" y="45"/>
                          </a:lnTo>
                          <a:lnTo>
                            <a:pt x="140" y="64"/>
                          </a:lnTo>
                          <a:lnTo>
                            <a:pt x="82" y="117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2422080" y="3591360"/>
                      <a:ext cx="23580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44">
                          <a:moveTo>
                            <a:pt x="0" y="84"/>
                          </a:moveTo>
                          <a:lnTo>
                            <a:pt x="58" y="12"/>
                          </a:lnTo>
                          <a:lnTo>
                            <a:pt x="85" y="27"/>
                          </a:lnTo>
                          <a:lnTo>
                            <a:pt x="97" y="12"/>
                          </a:lnTo>
                          <a:lnTo>
                            <a:pt x="127" y="0"/>
                          </a:lnTo>
                          <a:lnTo>
                            <a:pt x="138" y="21"/>
                          </a:lnTo>
                          <a:lnTo>
                            <a:pt x="150" y="26"/>
                          </a:lnTo>
                          <a:lnTo>
                            <a:pt x="150" y="43"/>
                          </a:lnTo>
                          <a:lnTo>
                            <a:pt x="168" y="49"/>
                          </a:lnTo>
                          <a:lnTo>
                            <a:pt x="164" y="59"/>
                          </a:lnTo>
                          <a:lnTo>
                            <a:pt x="116" y="78"/>
                          </a:lnTo>
                          <a:lnTo>
                            <a:pt x="125" y="104"/>
                          </a:lnTo>
                          <a:lnTo>
                            <a:pt x="120" y="120"/>
                          </a:lnTo>
                          <a:lnTo>
                            <a:pt x="108" y="123"/>
                          </a:lnTo>
                          <a:lnTo>
                            <a:pt x="93" y="115"/>
                          </a:lnTo>
                          <a:lnTo>
                            <a:pt x="90" y="144"/>
                          </a:lnTo>
                          <a:lnTo>
                            <a:pt x="0" y="84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1910880" y="3179520"/>
                    <a:ext cx="799200" cy="1054080"/>
                    <a:chOff x="1910880" y="3179520"/>
                    <a:chExt cx="799200" cy="1054080"/>
                  </a:xfrm>
                </p:grpSpPr>
                <p:grpSp>
                  <p:nvGrpSpPr>
                    <p:cNvPr id="256" name=""/>
                    <p:cNvGrpSpPr/>
                    <p:nvPr/>
                  </p:nvGrpSpPr>
                  <p:grpSpPr>
                    <a:xfrm>
                      <a:off x="1910880" y="3179520"/>
                      <a:ext cx="799200" cy="1054080"/>
                      <a:chOff x="1910880" y="3179520"/>
                      <a:chExt cx="799200" cy="1054080"/>
                    </a:xfrm>
                  </p:grpSpPr>
                  <p:grpSp>
                    <p:nvGrpSpPr>
                      <p:cNvPr id="257" name=""/>
                      <p:cNvGrpSpPr/>
                      <p:nvPr/>
                    </p:nvGrpSpPr>
                    <p:grpSpPr>
                      <a:xfrm>
                        <a:off x="1910880" y="3179520"/>
                        <a:ext cx="799200" cy="1054080"/>
                        <a:chOff x="1910880" y="3179520"/>
                        <a:chExt cx="799200" cy="1054080"/>
                      </a:xfrm>
                    </p:grpSpPr>
                    <p:grpSp>
                      <p:nvGrpSpPr>
                        <p:cNvPr id="258" name=""/>
                        <p:cNvGrpSpPr/>
                        <p:nvPr/>
                      </p:nvGrpSpPr>
                      <p:grpSpPr>
                        <a:xfrm>
                          <a:off x="1910880" y="3179520"/>
                          <a:ext cx="273960" cy="318240"/>
                          <a:chOff x="1910880" y="3179520"/>
                          <a:chExt cx="273960" cy="318240"/>
                        </a:xfrm>
                      </p:grpSpPr>
                      <p:sp>
                        <p:nvSpPr>
                          <p:cNvPr id="259" name=""/>
                          <p:cNvSpPr/>
                          <p:nvPr/>
                        </p:nvSpPr>
                        <p:spPr>
                          <a:xfrm>
                            <a:off x="2032920" y="3387600"/>
                            <a:ext cx="147240" cy="110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5" h="106">
                                <a:moveTo>
                                  <a:pt x="0" y="39"/>
                                </a:moveTo>
                                <a:lnTo>
                                  <a:pt x="18" y="85"/>
                                </a:lnTo>
                                <a:lnTo>
                                  <a:pt x="34" y="106"/>
                                </a:lnTo>
                                <a:lnTo>
                                  <a:pt x="105" y="73"/>
                                </a:lnTo>
                                <a:lnTo>
                                  <a:pt x="64" y="0"/>
                                </a:lnTo>
                                <a:lnTo>
                                  <a:pt x="0" y="3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8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60" name=""/>
                          <p:cNvGrpSpPr/>
                          <p:nvPr/>
                        </p:nvGrpSpPr>
                        <p:grpSpPr>
                          <a:xfrm>
                            <a:off x="1910880" y="3179520"/>
                            <a:ext cx="273960" cy="316440"/>
                            <a:chOff x="1910880" y="3179520"/>
                            <a:chExt cx="273960" cy="316440"/>
                          </a:xfrm>
                        </p:grpSpPr>
                        <p:grpSp>
                          <p:nvGrpSpPr>
                            <p:cNvPr id="261" name=""/>
                            <p:cNvGrpSpPr/>
                            <p:nvPr/>
                          </p:nvGrpSpPr>
                          <p:grpSpPr>
                            <a:xfrm>
                              <a:off x="1910880" y="3179520"/>
                              <a:ext cx="273960" cy="316440"/>
                              <a:chOff x="1910880" y="3179520"/>
                              <a:chExt cx="273960" cy="316440"/>
                            </a:xfrm>
                          </p:grpSpPr>
                          <p:sp>
                            <p:nvSpPr>
                              <p:cNvPr id="262" name=""/>
                              <p:cNvSpPr/>
                              <p:nvPr/>
                            </p:nvSpPr>
                            <p:spPr>
                              <a:xfrm>
                                <a:off x="1952640" y="3359520"/>
                                <a:ext cx="1234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8" h="131">
                                    <a:moveTo>
                                      <a:pt x="0" y="4"/>
                                    </a:moveTo>
                                    <a:lnTo>
                                      <a:pt x="2" y="59"/>
                                    </a:lnTo>
                                    <a:lnTo>
                                      <a:pt x="11" y="79"/>
                                    </a:lnTo>
                                    <a:lnTo>
                                      <a:pt x="22" y="103"/>
                                    </a:lnTo>
                                    <a:lnTo>
                                      <a:pt x="30" y="117"/>
                                    </a:lnTo>
                                    <a:lnTo>
                                      <a:pt x="41" y="131"/>
                                    </a:lnTo>
                                    <a:lnTo>
                                      <a:pt x="58" y="124"/>
                                    </a:lnTo>
                                    <a:lnTo>
                                      <a:pt x="88" y="118"/>
                                    </a:lnTo>
                                    <a:lnTo>
                                      <a:pt x="67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33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3" name=""/>
                              <p:cNvSpPr/>
                              <p:nvPr/>
                            </p:nvSpPr>
                            <p:spPr>
                              <a:xfrm>
                                <a:off x="1910880" y="3179520"/>
                                <a:ext cx="273960" cy="220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5" h="212">
                                    <a:moveTo>
                                      <a:pt x="0" y="198"/>
                                    </a:moveTo>
                                    <a:lnTo>
                                      <a:pt x="9" y="166"/>
                                    </a:lnTo>
                                    <a:lnTo>
                                      <a:pt x="18" y="145"/>
                                    </a:lnTo>
                                    <a:lnTo>
                                      <a:pt x="38" y="115"/>
                                    </a:lnTo>
                                    <a:lnTo>
                                      <a:pt x="74" y="76"/>
                                    </a:lnTo>
                                    <a:lnTo>
                                      <a:pt x="110" y="38"/>
                                    </a:lnTo>
                                    <a:lnTo>
                                      <a:pt x="147" y="0"/>
                                    </a:lnTo>
                                    <a:lnTo>
                                      <a:pt x="158" y="1"/>
                                    </a:lnTo>
                                    <a:lnTo>
                                      <a:pt x="195" y="37"/>
                                    </a:lnTo>
                                    <a:lnTo>
                                      <a:pt x="82" y="212"/>
                                    </a:lnTo>
                                    <a:lnTo>
                                      <a:pt x="0" y="19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33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4" name=""/>
                            <p:cNvSpPr/>
                            <p:nvPr/>
                          </p:nvSpPr>
                          <p:spPr>
                            <a:xfrm>
                              <a:off x="2093400" y="3202200"/>
                              <a:ext cx="44640" cy="41760"/>
                            </a:xfrm>
                            <a:prstGeom prst="ellipse">
                              <a:avLst/>
                            </a:prstGeom>
                            <a:solidFill>
                              <a:srgbClr val="ff9f00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280" bIns="-17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33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>
                          <a:off x="1996560" y="3195000"/>
                          <a:ext cx="713520" cy="103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8" h="997">
                              <a:moveTo>
                                <a:pt x="0" y="227"/>
                              </a:moveTo>
                              <a:lnTo>
                                <a:pt x="11" y="183"/>
                              </a:lnTo>
                              <a:lnTo>
                                <a:pt x="30" y="143"/>
                              </a:lnTo>
                              <a:lnTo>
                                <a:pt x="54" y="107"/>
                              </a:lnTo>
                              <a:lnTo>
                                <a:pt x="78" y="71"/>
                              </a:lnTo>
                              <a:lnTo>
                                <a:pt x="110" y="36"/>
                              </a:lnTo>
                              <a:lnTo>
                                <a:pt x="134" y="0"/>
                              </a:lnTo>
                              <a:lnTo>
                                <a:pt x="163" y="12"/>
                              </a:lnTo>
                              <a:lnTo>
                                <a:pt x="191" y="30"/>
                              </a:lnTo>
                              <a:lnTo>
                                <a:pt x="221" y="51"/>
                              </a:lnTo>
                              <a:lnTo>
                                <a:pt x="251" y="80"/>
                              </a:lnTo>
                              <a:lnTo>
                                <a:pt x="280" y="104"/>
                              </a:lnTo>
                              <a:lnTo>
                                <a:pt x="325" y="153"/>
                              </a:lnTo>
                              <a:lnTo>
                                <a:pt x="317" y="194"/>
                              </a:lnTo>
                              <a:lnTo>
                                <a:pt x="305" y="246"/>
                              </a:lnTo>
                              <a:lnTo>
                                <a:pt x="295" y="299"/>
                              </a:lnTo>
                              <a:lnTo>
                                <a:pt x="289" y="337"/>
                              </a:lnTo>
                              <a:lnTo>
                                <a:pt x="286" y="358"/>
                              </a:lnTo>
                              <a:lnTo>
                                <a:pt x="272" y="394"/>
                              </a:lnTo>
                              <a:lnTo>
                                <a:pt x="448" y="569"/>
                              </a:lnTo>
                              <a:lnTo>
                                <a:pt x="469" y="619"/>
                              </a:lnTo>
                              <a:lnTo>
                                <a:pt x="484" y="669"/>
                              </a:lnTo>
                              <a:lnTo>
                                <a:pt x="502" y="717"/>
                              </a:lnTo>
                              <a:lnTo>
                                <a:pt x="508" y="750"/>
                              </a:lnTo>
                              <a:lnTo>
                                <a:pt x="505" y="790"/>
                              </a:lnTo>
                              <a:lnTo>
                                <a:pt x="503" y="822"/>
                              </a:lnTo>
                              <a:lnTo>
                                <a:pt x="493" y="873"/>
                              </a:lnTo>
                              <a:lnTo>
                                <a:pt x="373" y="997"/>
                              </a:lnTo>
                              <a:lnTo>
                                <a:pt x="317" y="994"/>
                              </a:lnTo>
                              <a:lnTo>
                                <a:pt x="158" y="977"/>
                              </a:lnTo>
                              <a:lnTo>
                                <a:pt x="84" y="890"/>
                              </a:lnTo>
                              <a:lnTo>
                                <a:pt x="75" y="849"/>
                              </a:lnTo>
                              <a:lnTo>
                                <a:pt x="59" y="789"/>
                              </a:lnTo>
                              <a:lnTo>
                                <a:pt x="36" y="736"/>
                              </a:lnTo>
                              <a:lnTo>
                                <a:pt x="26" y="684"/>
                              </a:lnTo>
                              <a:lnTo>
                                <a:pt x="42" y="687"/>
                              </a:lnTo>
                              <a:lnTo>
                                <a:pt x="75" y="720"/>
                              </a:lnTo>
                              <a:lnTo>
                                <a:pt x="109" y="730"/>
                              </a:lnTo>
                              <a:lnTo>
                                <a:pt x="116" y="718"/>
                              </a:lnTo>
                              <a:lnTo>
                                <a:pt x="131" y="717"/>
                              </a:lnTo>
                              <a:lnTo>
                                <a:pt x="134" y="660"/>
                              </a:lnTo>
                              <a:lnTo>
                                <a:pt x="139" y="601"/>
                              </a:lnTo>
                              <a:lnTo>
                                <a:pt x="52" y="513"/>
                              </a:lnTo>
                              <a:lnTo>
                                <a:pt x="92" y="353"/>
                              </a:lnTo>
                              <a:lnTo>
                                <a:pt x="112" y="293"/>
                              </a:lnTo>
                              <a:lnTo>
                                <a:pt x="94" y="287"/>
                              </a:lnTo>
                              <a:lnTo>
                                <a:pt x="107" y="273"/>
                              </a:lnTo>
                              <a:lnTo>
                                <a:pt x="56" y="246"/>
                              </a:lnTo>
                              <a:lnTo>
                                <a:pt x="0" y="2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6" name=""/>
                      <p:cNvGrpSpPr/>
                      <p:nvPr/>
                    </p:nvGrpSpPr>
                    <p:grpSpPr>
                      <a:xfrm>
                        <a:off x="2146680" y="3445200"/>
                        <a:ext cx="115920" cy="549360"/>
                        <a:chOff x="2146680" y="3445200"/>
                        <a:chExt cx="115920" cy="549360"/>
                      </a:xfrm>
                    </p:grpSpPr>
                    <p:grpSp>
                      <p:nvGrpSpPr>
                        <p:cNvPr id="267" name=""/>
                        <p:cNvGrpSpPr/>
                        <p:nvPr/>
                      </p:nvGrpSpPr>
                      <p:grpSpPr>
                        <a:xfrm>
                          <a:off x="2146680" y="3445200"/>
                          <a:ext cx="106200" cy="54360"/>
                          <a:chOff x="2146680" y="3445200"/>
                          <a:chExt cx="106200" cy="54360"/>
                        </a:xfrm>
                      </p:grpSpPr>
                      <p:sp>
                        <p:nvSpPr>
                          <p:cNvPr id="268" name=""/>
                          <p:cNvSpPr/>
                          <p:nvPr/>
                        </p:nvSpPr>
                        <p:spPr>
                          <a:xfrm flipV="1">
                            <a:off x="2146680" y="3445200"/>
                            <a:ext cx="93600" cy="33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9" name=""/>
                          <p:cNvSpPr/>
                          <p:nvPr/>
                        </p:nvSpPr>
                        <p:spPr>
                          <a:xfrm flipV="1">
                            <a:off x="2154600" y="3487320"/>
                            <a:ext cx="98280" cy="12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560" bIns="-34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0" name=""/>
                        <p:cNvGrpSpPr/>
                        <p:nvPr/>
                      </p:nvGrpSpPr>
                      <p:grpSpPr>
                        <a:xfrm>
                          <a:off x="2149200" y="3821040"/>
                          <a:ext cx="113400" cy="173520"/>
                          <a:chOff x="2149200" y="3821040"/>
                          <a:chExt cx="113400" cy="173520"/>
                        </a:xfrm>
                      </p:grpSpPr>
                      <p:sp>
                        <p:nvSpPr>
                          <p:cNvPr id="271" name=""/>
                          <p:cNvSpPr/>
                          <p:nvPr/>
                        </p:nvSpPr>
                        <p:spPr>
                          <a:xfrm>
                            <a:off x="2190960" y="3821040"/>
                            <a:ext cx="71640" cy="1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10">
                                <a:moveTo>
                                  <a:pt x="0" y="0"/>
                                </a:moveTo>
                                <a:lnTo>
                                  <a:pt x="13" y="10"/>
                                </a:lnTo>
                                <a:lnTo>
                                  <a:pt x="51" y="4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2" name=""/>
                          <p:cNvSpPr/>
                          <p:nvPr/>
                        </p:nvSpPr>
                        <p:spPr>
                          <a:xfrm>
                            <a:off x="2182680" y="3941280"/>
                            <a:ext cx="50040" cy="47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46">
                                <a:moveTo>
                                  <a:pt x="0" y="0"/>
                                </a:moveTo>
                                <a:lnTo>
                                  <a:pt x="12" y="21"/>
                                </a:lnTo>
                                <a:lnTo>
                                  <a:pt x="36" y="46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3" name=""/>
                          <p:cNvSpPr/>
                          <p:nvPr/>
                        </p:nvSpPr>
                        <p:spPr>
                          <a:xfrm>
                            <a:off x="2149200" y="3957120"/>
                            <a:ext cx="26640" cy="37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9360" bIns="-9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2308320" y="3290040"/>
                      <a:ext cx="143280" cy="18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75">
                          <a:moveTo>
                            <a:pt x="44" y="0"/>
                          </a:moveTo>
                          <a:lnTo>
                            <a:pt x="9" y="26"/>
                          </a:lnTo>
                          <a:lnTo>
                            <a:pt x="0" y="56"/>
                          </a:lnTo>
                          <a:lnTo>
                            <a:pt x="36" y="83"/>
                          </a:lnTo>
                          <a:lnTo>
                            <a:pt x="43" y="104"/>
                          </a:lnTo>
                          <a:lnTo>
                            <a:pt x="30" y="152"/>
                          </a:lnTo>
                          <a:lnTo>
                            <a:pt x="37" y="171"/>
                          </a:lnTo>
                          <a:lnTo>
                            <a:pt x="79" y="175"/>
                          </a:lnTo>
                          <a:lnTo>
                            <a:pt x="102" y="63"/>
                          </a:lnTo>
                          <a:lnTo>
                            <a:pt x="68" y="23"/>
                          </a:lnTo>
                          <a:lnTo>
                            <a:pt x="57" y="11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2621880" y="3927240"/>
                  <a:ext cx="43200" cy="117720"/>
                  <a:chOff x="2621880" y="3927240"/>
                  <a:chExt cx="43200" cy="1177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623320" y="3927240"/>
                    <a:ext cx="41760" cy="478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621880" y="3997080"/>
                    <a:ext cx="42120" cy="478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78" name=""/>
          <p:cNvSpPr/>
          <p:nvPr/>
        </p:nvSpPr>
        <p:spPr>
          <a:xfrm>
            <a:off x="0" y="380880"/>
            <a:ext cx="6400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改变坏习惯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471760" y="4191120"/>
            <a:ext cx="3319560" cy="885600"/>
            <a:chOff x="2471760" y="4191120"/>
            <a:chExt cx="3319560" cy="885600"/>
          </a:xfrm>
        </p:grpSpPr>
        <p:sp>
          <p:nvSpPr>
            <p:cNvPr id="280" name=""/>
            <p:cNvSpPr/>
            <p:nvPr/>
          </p:nvSpPr>
          <p:spPr>
            <a:xfrm>
              <a:off x="2471760" y="4191120"/>
              <a:ext cx="3319560" cy="88560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467240" y="4289400"/>
              <a:ext cx="768240" cy="614880"/>
              <a:chOff x="4467240" y="4289400"/>
              <a:chExt cx="768240" cy="614880"/>
            </a:xfrm>
          </p:grpSpPr>
          <p:sp>
            <p:nvSpPr>
              <p:cNvPr id="282" name=""/>
              <p:cNvSpPr/>
              <p:nvPr/>
            </p:nvSpPr>
            <p:spPr>
              <a:xfrm>
                <a:off x="4467240" y="4289400"/>
                <a:ext cx="222120" cy="20556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16640" y="4467240"/>
                <a:ext cx="347400" cy="23220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89520" y="4648320"/>
                <a:ext cx="345960" cy="25596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2505240" y="3657600"/>
            <a:ext cx="4123800" cy="1419120"/>
            <a:chOff x="2505240" y="3657600"/>
            <a:chExt cx="4123800" cy="1419120"/>
          </a:xfrm>
        </p:grpSpPr>
        <p:sp>
          <p:nvSpPr>
            <p:cNvPr id="286" name=""/>
            <p:cNvSpPr/>
            <p:nvPr/>
          </p:nvSpPr>
          <p:spPr>
            <a:xfrm>
              <a:off x="2505240" y="3657600"/>
              <a:ext cx="4123800" cy="141912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984200" y="3815280"/>
              <a:ext cx="954000" cy="984960"/>
              <a:chOff x="4984200" y="3815280"/>
              <a:chExt cx="954000" cy="984960"/>
            </a:xfrm>
          </p:grpSpPr>
          <p:sp>
            <p:nvSpPr>
              <p:cNvPr id="288" name=""/>
              <p:cNvSpPr/>
              <p:nvPr/>
            </p:nvSpPr>
            <p:spPr>
              <a:xfrm>
                <a:off x="4984200" y="3815280"/>
                <a:ext cx="275760" cy="32940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69600" y="4100040"/>
                <a:ext cx="431280" cy="37224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508720" y="4390200"/>
                <a:ext cx="429480" cy="41004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2548080" y="3076560"/>
            <a:ext cx="4385880" cy="2028600"/>
            <a:chOff x="2548080" y="3076560"/>
            <a:chExt cx="4385880" cy="2028600"/>
          </a:xfrm>
        </p:grpSpPr>
        <p:sp>
          <p:nvSpPr>
            <p:cNvPr id="292" name=""/>
            <p:cNvSpPr/>
            <p:nvPr/>
          </p:nvSpPr>
          <p:spPr>
            <a:xfrm>
              <a:off x="2548080" y="3076560"/>
              <a:ext cx="4385880" cy="202860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184360" y="3302280"/>
              <a:ext cx="1014480" cy="1407960"/>
              <a:chOff x="5184360" y="3302280"/>
              <a:chExt cx="1014480" cy="1407960"/>
            </a:xfrm>
          </p:grpSpPr>
          <p:sp>
            <p:nvSpPr>
              <p:cNvPr id="294" name=""/>
              <p:cNvSpPr/>
              <p:nvPr/>
            </p:nvSpPr>
            <p:spPr>
              <a:xfrm>
                <a:off x="5184360" y="3302280"/>
                <a:ext cx="293040" cy="47088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81640" y="3709440"/>
                <a:ext cx="458640" cy="53208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742000" y="4124160"/>
                <a:ext cx="456840" cy="58608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2624040" y="2209680"/>
            <a:ext cx="4538520" cy="2866680"/>
            <a:chOff x="2624040" y="2209680"/>
            <a:chExt cx="4538520" cy="2866680"/>
          </a:xfrm>
        </p:grpSpPr>
        <p:sp>
          <p:nvSpPr>
            <p:cNvPr id="298" name=""/>
            <p:cNvSpPr/>
            <p:nvPr/>
          </p:nvSpPr>
          <p:spPr>
            <a:xfrm>
              <a:off x="2624040" y="2209680"/>
              <a:ext cx="4538520" cy="286668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5352120" y="2528640"/>
              <a:ext cx="1049760" cy="1989360"/>
              <a:chOff x="5352120" y="2528640"/>
              <a:chExt cx="1049760" cy="1989360"/>
            </a:xfrm>
          </p:grpSpPr>
          <p:sp>
            <p:nvSpPr>
              <p:cNvPr id="300" name=""/>
              <p:cNvSpPr/>
              <p:nvPr/>
            </p:nvSpPr>
            <p:spPr>
              <a:xfrm>
                <a:off x="5352120" y="2528640"/>
                <a:ext cx="303480" cy="66528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556240" y="3104280"/>
                <a:ext cx="474480" cy="75204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929200" y="3690000"/>
                <a:ext cx="472680" cy="82800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2505240" y="1371600"/>
            <a:ext cx="4809600" cy="3704400"/>
            <a:chOff x="2505240" y="1371600"/>
            <a:chExt cx="4809600" cy="3704400"/>
          </a:xfrm>
        </p:grpSpPr>
        <p:sp>
          <p:nvSpPr>
            <p:cNvPr id="304" name=""/>
            <p:cNvSpPr/>
            <p:nvPr/>
          </p:nvSpPr>
          <p:spPr>
            <a:xfrm>
              <a:off x="2505240" y="1371600"/>
              <a:ext cx="4809600" cy="370440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396400" y="1783800"/>
              <a:ext cx="1112760" cy="2571120"/>
              <a:chOff x="5396400" y="1783800"/>
              <a:chExt cx="1112760" cy="2571120"/>
            </a:xfrm>
          </p:grpSpPr>
          <p:sp>
            <p:nvSpPr>
              <p:cNvPr id="306" name=""/>
              <p:cNvSpPr/>
              <p:nvPr/>
            </p:nvSpPr>
            <p:spPr>
              <a:xfrm>
                <a:off x="5396400" y="1783800"/>
                <a:ext cx="321480" cy="85968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612760" y="2527560"/>
                <a:ext cx="503280" cy="97200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08040" y="3284640"/>
                <a:ext cx="501120" cy="107028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2590920" y="0"/>
            <a:ext cx="5486040" cy="5104800"/>
            <a:chOff x="2590920" y="0"/>
            <a:chExt cx="5486040" cy="5104800"/>
          </a:xfrm>
        </p:grpSpPr>
        <p:sp>
          <p:nvSpPr>
            <p:cNvPr id="310" name=""/>
            <p:cNvSpPr/>
            <p:nvPr/>
          </p:nvSpPr>
          <p:spPr>
            <a:xfrm>
              <a:off x="2590920" y="0"/>
              <a:ext cx="5486040" cy="510480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a0a0a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888520" y="568080"/>
              <a:ext cx="1268640" cy="3543120"/>
              <a:chOff x="5888520" y="568080"/>
              <a:chExt cx="1268640" cy="3543120"/>
            </a:xfrm>
          </p:grpSpPr>
          <p:sp>
            <p:nvSpPr>
              <p:cNvPr id="312" name=""/>
              <p:cNvSpPr/>
              <p:nvPr/>
            </p:nvSpPr>
            <p:spPr>
              <a:xfrm>
                <a:off x="5888520" y="568080"/>
                <a:ext cx="366840" cy="118476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35120" y="1593000"/>
                <a:ext cx="573840" cy="133956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85840" y="2636280"/>
                <a:ext cx="571320" cy="147492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914400" y="5029200"/>
            <a:ext cx="74674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能移就多移，不能就少移，力争一定要移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559960" y="1168560"/>
            <a:ext cx="1990080" cy="2323080"/>
            <a:chOff x="2559960" y="1168560"/>
            <a:chExt cx="1990080" cy="2323080"/>
          </a:xfrm>
        </p:grpSpPr>
        <p:grpSp>
          <p:nvGrpSpPr>
            <p:cNvPr id="317" name=""/>
            <p:cNvGrpSpPr/>
            <p:nvPr/>
          </p:nvGrpSpPr>
          <p:grpSpPr>
            <a:xfrm>
              <a:off x="2559960" y="1168560"/>
              <a:ext cx="1217160" cy="2201400"/>
              <a:chOff x="2559960" y="1168560"/>
              <a:chExt cx="1217160" cy="2201400"/>
            </a:xfrm>
          </p:grpSpPr>
          <p:sp>
            <p:nvSpPr>
              <p:cNvPr id="318" name=""/>
              <p:cNvSpPr/>
              <p:nvPr/>
            </p:nvSpPr>
            <p:spPr>
              <a:xfrm rot="1475400">
                <a:off x="2594160" y="3116520"/>
                <a:ext cx="637920" cy="126000"/>
              </a:xfrm>
              <a:custGeom>
                <a:avLst/>
                <a:gdLst/>
                <a:ahLst/>
                <a:rect l="l" t="t" r="r" b="b"/>
                <a:pathLst>
                  <a:path w="454" h="121">
                    <a:moveTo>
                      <a:pt x="271" y="0"/>
                    </a:moveTo>
                    <a:lnTo>
                      <a:pt x="230" y="4"/>
                    </a:lnTo>
                    <a:lnTo>
                      <a:pt x="186" y="9"/>
                    </a:lnTo>
                    <a:lnTo>
                      <a:pt x="156" y="15"/>
                    </a:lnTo>
                    <a:lnTo>
                      <a:pt x="135" y="12"/>
                    </a:lnTo>
                    <a:lnTo>
                      <a:pt x="102" y="13"/>
                    </a:lnTo>
                    <a:lnTo>
                      <a:pt x="57" y="18"/>
                    </a:lnTo>
                    <a:lnTo>
                      <a:pt x="29" y="25"/>
                    </a:lnTo>
                    <a:lnTo>
                      <a:pt x="11" y="34"/>
                    </a:lnTo>
                    <a:lnTo>
                      <a:pt x="3" y="42"/>
                    </a:lnTo>
                    <a:lnTo>
                      <a:pt x="0" y="55"/>
                    </a:lnTo>
                    <a:lnTo>
                      <a:pt x="6" y="64"/>
                    </a:lnTo>
                    <a:lnTo>
                      <a:pt x="17" y="72"/>
                    </a:lnTo>
                    <a:lnTo>
                      <a:pt x="32" y="79"/>
                    </a:lnTo>
                    <a:lnTo>
                      <a:pt x="53" y="86"/>
                    </a:lnTo>
                    <a:lnTo>
                      <a:pt x="77" y="91"/>
                    </a:lnTo>
                    <a:lnTo>
                      <a:pt x="141" y="97"/>
                    </a:lnTo>
                    <a:lnTo>
                      <a:pt x="311" y="111"/>
                    </a:lnTo>
                    <a:lnTo>
                      <a:pt x="454" y="121"/>
                    </a:lnTo>
                    <a:lnTo>
                      <a:pt x="271" y="0"/>
                    </a:lnTo>
                    <a:close/>
                  </a:path>
                </a:pathLst>
              </a:custGeom>
              <a:solidFill>
                <a:srgbClr val="3f3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559960" y="1168560"/>
                <a:ext cx="1217160" cy="1015200"/>
                <a:chOff x="2559960" y="1168560"/>
                <a:chExt cx="1217160" cy="101520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2559960" y="1168560"/>
                  <a:ext cx="1217160" cy="1015200"/>
                  <a:chOff x="2559960" y="1168560"/>
                  <a:chExt cx="1217160" cy="1015200"/>
                </a:xfrm>
              </p:grpSpPr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685960" y="1168560"/>
                    <a:ext cx="1091160" cy="1015200"/>
                    <a:chOff x="2685960" y="1168560"/>
                    <a:chExt cx="1091160" cy="1015200"/>
                  </a:xfrm>
                </p:grpSpPr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2685960" y="1168560"/>
                      <a:ext cx="1091160" cy="1015200"/>
                      <a:chOff x="2685960" y="1168560"/>
                      <a:chExt cx="1091160" cy="101520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 rot="1475400">
                        <a:off x="2803320" y="1315080"/>
                        <a:ext cx="862560" cy="72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4" h="693">
                            <a:moveTo>
                              <a:pt x="490" y="60"/>
                            </a:moveTo>
                            <a:lnTo>
                              <a:pt x="544" y="0"/>
                            </a:lnTo>
                            <a:lnTo>
                              <a:pt x="560" y="1"/>
                            </a:lnTo>
                            <a:lnTo>
                              <a:pt x="574" y="4"/>
                            </a:lnTo>
                            <a:lnTo>
                              <a:pt x="587" y="10"/>
                            </a:lnTo>
                            <a:lnTo>
                              <a:pt x="597" y="17"/>
                            </a:lnTo>
                            <a:lnTo>
                              <a:pt x="605" y="25"/>
                            </a:lnTo>
                            <a:lnTo>
                              <a:pt x="611" y="37"/>
                            </a:lnTo>
                            <a:lnTo>
                              <a:pt x="614" y="53"/>
                            </a:lnTo>
                            <a:lnTo>
                              <a:pt x="613" y="68"/>
                            </a:lnTo>
                            <a:lnTo>
                              <a:pt x="44" y="693"/>
                            </a:lnTo>
                            <a:lnTo>
                              <a:pt x="0" y="645"/>
                            </a:lnTo>
                            <a:lnTo>
                              <a:pt x="490" y="6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 rot="1475400">
                        <a:off x="2693520" y="1788840"/>
                        <a:ext cx="7020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51">
                            <a:moveTo>
                              <a:pt x="2" y="2"/>
                            </a:moveTo>
                            <a:lnTo>
                              <a:pt x="15" y="0"/>
                            </a:lnTo>
                            <a:lnTo>
                              <a:pt x="27" y="5"/>
                            </a:lnTo>
                            <a:lnTo>
                              <a:pt x="37" y="11"/>
                            </a:lnTo>
                            <a:lnTo>
                              <a:pt x="44" y="18"/>
                            </a:lnTo>
                            <a:lnTo>
                              <a:pt x="49" y="30"/>
                            </a:lnTo>
                            <a:lnTo>
                              <a:pt x="50" y="42"/>
                            </a:lnTo>
                            <a:lnTo>
                              <a:pt x="48" y="49"/>
                            </a:lnTo>
                            <a:lnTo>
                              <a:pt x="39" y="51"/>
                            </a:lnTo>
                            <a:lnTo>
                              <a:pt x="26" y="50"/>
                            </a:lnTo>
                            <a:lnTo>
                              <a:pt x="18" y="46"/>
                            </a:lnTo>
                            <a:lnTo>
                              <a:pt x="10" y="40"/>
                            </a:lnTo>
                            <a:lnTo>
                              <a:pt x="5" y="34"/>
                            </a:lnTo>
                            <a:lnTo>
                              <a:pt x="1" y="22"/>
                            </a:lnTo>
                            <a:lnTo>
                              <a:pt x="0" y="11"/>
                            </a:lnTo>
                            <a:lnTo>
                              <a:pt x="2" y="2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5" name=""/>
                    <p:cNvGrpSpPr/>
                    <p:nvPr/>
                  </p:nvGrpSpPr>
                  <p:grpSpPr>
                    <a:xfrm>
                      <a:off x="2943360" y="1501920"/>
                      <a:ext cx="811440" cy="261360"/>
                      <a:chOff x="2943360" y="1501920"/>
                      <a:chExt cx="811440" cy="261360"/>
                    </a:xfrm>
                  </p:grpSpPr>
                  <p:grpSp>
                    <p:nvGrpSpPr>
                      <p:cNvPr id="326" name=""/>
                      <p:cNvGrpSpPr/>
                      <p:nvPr/>
                    </p:nvGrpSpPr>
                    <p:grpSpPr>
                      <a:xfrm>
                        <a:off x="3580920" y="1501920"/>
                        <a:ext cx="173880" cy="79920"/>
                        <a:chOff x="3580920" y="1501920"/>
                        <a:chExt cx="173880" cy="79920"/>
                      </a:xfrm>
                    </p:grpSpPr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V="1">
                          <a:off x="3580920" y="1501920"/>
                          <a:ext cx="131760" cy="31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480" bIns="-15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V="1">
                          <a:off x="3645360" y="1525680"/>
                          <a:ext cx="95040" cy="14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>
                          <a:off x="3620520" y="1547280"/>
                          <a:ext cx="134280" cy="20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3665160" y="1575720"/>
                          <a:ext cx="88200" cy="6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1" name=""/>
                      <p:cNvGrpSpPr/>
                      <p:nvPr/>
                    </p:nvGrpSpPr>
                    <p:grpSpPr>
                      <a:xfrm>
                        <a:off x="2943360" y="1657440"/>
                        <a:ext cx="279360" cy="105840"/>
                        <a:chOff x="2943360" y="1657440"/>
                        <a:chExt cx="279360" cy="105840"/>
                      </a:xfrm>
                    </p:grpSpPr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V="1">
                          <a:off x="2943360" y="1690200"/>
                          <a:ext cx="100800" cy="28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V="1">
                          <a:off x="2976480" y="1732680"/>
                          <a:ext cx="57240" cy="14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V="1">
                          <a:off x="2989080" y="1708200"/>
                          <a:ext cx="212040" cy="55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280" bIns="8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 flipV="1">
                          <a:off x="3118680" y="1657440"/>
                          <a:ext cx="104040" cy="21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36" name=""/>
                  <p:cNvSpPr/>
                  <p:nvPr/>
                </p:nvSpPr>
                <p:spPr>
                  <a:xfrm rot="1475400">
                    <a:off x="2608200" y="1603800"/>
                    <a:ext cx="525600" cy="34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334">
                        <a:moveTo>
                          <a:pt x="0" y="157"/>
                        </a:moveTo>
                        <a:lnTo>
                          <a:pt x="8" y="133"/>
                        </a:lnTo>
                        <a:lnTo>
                          <a:pt x="20" y="107"/>
                        </a:lnTo>
                        <a:lnTo>
                          <a:pt x="33" y="86"/>
                        </a:lnTo>
                        <a:lnTo>
                          <a:pt x="49" y="64"/>
                        </a:lnTo>
                        <a:lnTo>
                          <a:pt x="64" y="47"/>
                        </a:lnTo>
                        <a:lnTo>
                          <a:pt x="83" y="30"/>
                        </a:lnTo>
                        <a:lnTo>
                          <a:pt x="103" y="15"/>
                        </a:lnTo>
                        <a:lnTo>
                          <a:pt x="125" y="0"/>
                        </a:lnTo>
                        <a:lnTo>
                          <a:pt x="137" y="13"/>
                        </a:lnTo>
                        <a:lnTo>
                          <a:pt x="152" y="27"/>
                        </a:lnTo>
                        <a:lnTo>
                          <a:pt x="170" y="42"/>
                        </a:lnTo>
                        <a:lnTo>
                          <a:pt x="194" y="62"/>
                        </a:lnTo>
                        <a:lnTo>
                          <a:pt x="217" y="80"/>
                        </a:lnTo>
                        <a:lnTo>
                          <a:pt x="241" y="96"/>
                        </a:lnTo>
                        <a:lnTo>
                          <a:pt x="268" y="115"/>
                        </a:lnTo>
                        <a:lnTo>
                          <a:pt x="297" y="132"/>
                        </a:lnTo>
                        <a:lnTo>
                          <a:pt x="322" y="145"/>
                        </a:lnTo>
                        <a:lnTo>
                          <a:pt x="345" y="158"/>
                        </a:lnTo>
                        <a:lnTo>
                          <a:pt x="374" y="173"/>
                        </a:lnTo>
                        <a:lnTo>
                          <a:pt x="255" y="334"/>
                        </a:lnTo>
                        <a:lnTo>
                          <a:pt x="233" y="312"/>
                        </a:lnTo>
                        <a:lnTo>
                          <a:pt x="208" y="288"/>
                        </a:lnTo>
                        <a:lnTo>
                          <a:pt x="192" y="270"/>
                        </a:lnTo>
                        <a:lnTo>
                          <a:pt x="173" y="253"/>
                        </a:lnTo>
                        <a:lnTo>
                          <a:pt x="151" y="238"/>
                        </a:lnTo>
                        <a:lnTo>
                          <a:pt x="121" y="218"/>
                        </a:lnTo>
                        <a:lnTo>
                          <a:pt x="95" y="203"/>
                        </a:lnTo>
                        <a:lnTo>
                          <a:pt x="68" y="188"/>
                        </a:lnTo>
                        <a:lnTo>
                          <a:pt x="45" y="175"/>
                        </a:lnTo>
                        <a:lnTo>
                          <a:pt x="20" y="164"/>
                        </a:lnTo>
                        <a:lnTo>
                          <a:pt x="0" y="157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" name=""/>
                <p:cNvSpPr/>
                <p:nvPr/>
              </p:nvSpPr>
              <p:spPr>
                <a:xfrm rot="1475400">
                  <a:off x="2911320" y="1851120"/>
                  <a:ext cx="167040" cy="166320"/>
                </a:xfrm>
                <a:custGeom>
                  <a:avLst/>
                  <a:gdLst/>
                  <a:ahLst/>
                  <a:rect l="l" t="t" r="r" b="b"/>
                  <a:pathLst>
                    <a:path w="119" h="160">
                      <a:moveTo>
                        <a:pt x="119" y="0"/>
                      </a:moveTo>
                      <a:lnTo>
                        <a:pt x="102" y="7"/>
                      </a:lnTo>
                      <a:lnTo>
                        <a:pt x="87" y="17"/>
                      </a:lnTo>
                      <a:lnTo>
                        <a:pt x="73" y="29"/>
                      </a:lnTo>
                      <a:lnTo>
                        <a:pt x="59" y="43"/>
                      </a:lnTo>
                      <a:lnTo>
                        <a:pt x="44" y="61"/>
                      </a:lnTo>
                      <a:lnTo>
                        <a:pt x="35" y="75"/>
                      </a:lnTo>
                      <a:lnTo>
                        <a:pt x="23" y="94"/>
                      </a:lnTo>
                      <a:lnTo>
                        <a:pt x="13" y="114"/>
                      </a:lnTo>
                      <a:lnTo>
                        <a:pt x="4" y="135"/>
                      </a:lnTo>
                      <a:lnTo>
                        <a:pt x="0" y="160"/>
                      </a:lnTo>
                      <a:lnTo>
                        <a:pt x="18" y="155"/>
                      </a:lnTo>
                      <a:lnTo>
                        <a:pt x="32" y="148"/>
                      </a:lnTo>
                      <a:lnTo>
                        <a:pt x="50" y="138"/>
                      </a:lnTo>
                      <a:lnTo>
                        <a:pt x="66" y="124"/>
                      </a:lnTo>
                      <a:lnTo>
                        <a:pt x="81" y="108"/>
                      </a:lnTo>
                      <a:lnTo>
                        <a:pt x="93" y="91"/>
                      </a:lnTo>
                      <a:lnTo>
                        <a:pt x="102" y="74"/>
                      </a:lnTo>
                      <a:lnTo>
                        <a:pt x="111" y="53"/>
                      </a:lnTo>
                      <a:lnTo>
                        <a:pt x="116" y="36"/>
                      </a:lnTo>
                      <a:lnTo>
                        <a:pt x="118" y="17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8" name=""/>
            <p:cNvGrpSpPr/>
            <p:nvPr/>
          </p:nvGrpSpPr>
          <p:grpSpPr>
            <a:xfrm>
              <a:off x="2730960" y="1393200"/>
              <a:ext cx="1819080" cy="2098440"/>
              <a:chOff x="2730960" y="1393200"/>
              <a:chExt cx="1819080" cy="2098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730960" y="1393200"/>
                <a:ext cx="1819080" cy="2098440"/>
                <a:chOff x="2730960" y="1393200"/>
                <a:chExt cx="1819080" cy="2098440"/>
              </a:xfrm>
            </p:grpSpPr>
            <p:grpSp>
              <p:nvGrpSpPr>
                <p:cNvPr id="340" name=""/>
                <p:cNvGrpSpPr/>
                <p:nvPr/>
              </p:nvGrpSpPr>
              <p:grpSpPr>
                <a:xfrm>
                  <a:off x="2730960" y="2612520"/>
                  <a:ext cx="1056240" cy="879120"/>
                  <a:chOff x="2730960" y="2612520"/>
                  <a:chExt cx="1056240" cy="87912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2955240" y="2689200"/>
                    <a:ext cx="831960" cy="685440"/>
                    <a:chOff x="2955240" y="2689200"/>
                    <a:chExt cx="831960" cy="68544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rot="1475400">
                      <a:off x="3010680" y="2819880"/>
                      <a:ext cx="72108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3" h="407">
                          <a:moveTo>
                            <a:pt x="136" y="0"/>
                          </a:moveTo>
                          <a:lnTo>
                            <a:pt x="180" y="10"/>
                          </a:lnTo>
                          <a:lnTo>
                            <a:pt x="144" y="91"/>
                          </a:lnTo>
                          <a:lnTo>
                            <a:pt x="111" y="158"/>
                          </a:lnTo>
                          <a:lnTo>
                            <a:pt x="90" y="207"/>
                          </a:lnTo>
                          <a:lnTo>
                            <a:pt x="84" y="228"/>
                          </a:lnTo>
                          <a:lnTo>
                            <a:pt x="85" y="245"/>
                          </a:lnTo>
                          <a:lnTo>
                            <a:pt x="93" y="257"/>
                          </a:lnTo>
                          <a:lnTo>
                            <a:pt x="109" y="269"/>
                          </a:lnTo>
                          <a:lnTo>
                            <a:pt x="131" y="282"/>
                          </a:lnTo>
                          <a:lnTo>
                            <a:pt x="154" y="290"/>
                          </a:lnTo>
                          <a:lnTo>
                            <a:pt x="186" y="300"/>
                          </a:lnTo>
                          <a:lnTo>
                            <a:pt x="216" y="305"/>
                          </a:lnTo>
                          <a:lnTo>
                            <a:pt x="253" y="308"/>
                          </a:lnTo>
                          <a:lnTo>
                            <a:pt x="287" y="305"/>
                          </a:lnTo>
                          <a:lnTo>
                            <a:pt x="321" y="300"/>
                          </a:lnTo>
                          <a:lnTo>
                            <a:pt x="358" y="292"/>
                          </a:lnTo>
                          <a:lnTo>
                            <a:pt x="371" y="295"/>
                          </a:lnTo>
                          <a:lnTo>
                            <a:pt x="376" y="298"/>
                          </a:lnTo>
                          <a:lnTo>
                            <a:pt x="378" y="305"/>
                          </a:lnTo>
                          <a:lnTo>
                            <a:pt x="373" y="319"/>
                          </a:lnTo>
                          <a:lnTo>
                            <a:pt x="368" y="327"/>
                          </a:lnTo>
                          <a:lnTo>
                            <a:pt x="375" y="330"/>
                          </a:lnTo>
                          <a:lnTo>
                            <a:pt x="426" y="321"/>
                          </a:lnTo>
                          <a:lnTo>
                            <a:pt x="438" y="324"/>
                          </a:lnTo>
                          <a:lnTo>
                            <a:pt x="445" y="329"/>
                          </a:lnTo>
                          <a:lnTo>
                            <a:pt x="448" y="337"/>
                          </a:lnTo>
                          <a:lnTo>
                            <a:pt x="443" y="344"/>
                          </a:lnTo>
                          <a:lnTo>
                            <a:pt x="434" y="350"/>
                          </a:lnTo>
                          <a:lnTo>
                            <a:pt x="423" y="357"/>
                          </a:lnTo>
                          <a:lnTo>
                            <a:pt x="431" y="362"/>
                          </a:lnTo>
                          <a:lnTo>
                            <a:pt x="453" y="360"/>
                          </a:lnTo>
                          <a:lnTo>
                            <a:pt x="471" y="362"/>
                          </a:lnTo>
                          <a:lnTo>
                            <a:pt x="489" y="368"/>
                          </a:lnTo>
                          <a:lnTo>
                            <a:pt x="509" y="377"/>
                          </a:lnTo>
                          <a:lnTo>
                            <a:pt x="513" y="384"/>
                          </a:lnTo>
                          <a:lnTo>
                            <a:pt x="512" y="393"/>
                          </a:lnTo>
                          <a:lnTo>
                            <a:pt x="503" y="399"/>
                          </a:lnTo>
                          <a:lnTo>
                            <a:pt x="485" y="402"/>
                          </a:lnTo>
                          <a:lnTo>
                            <a:pt x="455" y="404"/>
                          </a:lnTo>
                          <a:lnTo>
                            <a:pt x="422" y="402"/>
                          </a:lnTo>
                          <a:lnTo>
                            <a:pt x="385" y="405"/>
                          </a:lnTo>
                          <a:lnTo>
                            <a:pt x="360" y="407"/>
                          </a:lnTo>
                          <a:lnTo>
                            <a:pt x="313" y="404"/>
                          </a:lnTo>
                          <a:lnTo>
                            <a:pt x="289" y="399"/>
                          </a:lnTo>
                          <a:lnTo>
                            <a:pt x="254" y="393"/>
                          </a:lnTo>
                          <a:lnTo>
                            <a:pt x="196" y="391"/>
                          </a:lnTo>
                          <a:lnTo>
                            <a:pt x="0" y="333"/>
                          </a:lnTo>
                          <a:lnTo>
                            <a:pt x="24" y="194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9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1475400">
                      <a:off x="3260160" y="3124800"/>
                      <a:ext cx="11520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22">
                          <a:moveTo>
                            <a:pt x="0" y="0"/>
                          </a:moveTo>
                          <a:lnTo>
                            <a:pt x="42" y="20"/>
                          </a:lnTo>
                          <a:lnTo>
                            <a:pt x="60" y="20"/>
                          </a:lnTo>
                          <a:lnTo>
                            <a:pt x="82" y="22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730960" y="2612520"/>
                    <a:ext cx="923400" cy="879120"/>
                    <a:chOff x="2730960" y="2612520"/>
                    <a:chExt cx="923400" cy="87912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475400">
                      <a:off x="2829960" y="2734560"/>
                      <a:ext cx="725040" cy="63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610">
                          <a:moveTo>
                            <a:pt x="186" y="0"/>
                          </a:moveTo>
                          <a:lnTo>
                            <a:pt x="269" y="16"/>
                          </a:lnTo>
                          <a:lnTo>
                            <a:pt x="265" y="35"/>
                          </a:lnTo>
                          <a:lnTo>
                            <a:pt x="256" y="57"/>
                          </a:lnTo>
                          <a:lnTo>
                            <a:pt x="247" y="76"/>
                          </a:lnTo>
                          <a:lnTo>
                            <a:pt x="234" y="98"/>
                          </a:lnTo>
                          <a:lnTo>
                            <a:pt x="220" y="118"/>
                          </a:lnTo>
                          <a:lnTo>
                            <a:pt x="206" y="136"/>
                          </a:lnTo>
                          <a:lnTo>
                            <a:pt x="197" y="161"/>
                          </a:lnTo>
                          <a:lnTo>
                            <a:pt x="181" y="196"/>
                          </a:lnTo>
                          <a:lnTo>
                            <a:pt x="165" y="228"/>
                          </a:lnTo>
                          <a:lnTo>
                            <a:pt x="159" y="239"/>
                          </a:lnTo>
                          <a:lnTo>
                            <a:pt x="155" y="252"/>
                          </a:lnTo>
                          <a:lnTo>
                            <a:pt x="152" y="268"/>
                          </a:lnTo>
                          <a:lnTo>
                            <a:pt x="149" y="286"/>
                          </a:lnTo>
                          <a:lnTo>
                            <a:pt x="146" y="304"/>
                          </a:lnTo>
                          <a:lnTo>
                            <a:pt x="147" y="320"/>
                          </a:lnTo>
                          <a:lnTo>
                            <a:pt x="152" y="333"/>
                          </a:lnTo>
                          <a:lnTo>
                            <a:pt x="162" y="344"/>
                          </a:lnTo>
                          <a:lnTo>
                            <a:pt x="184" y="349"/>
                          </a:lnTo>
                          <a:lnTo>
                            <a:pt x="206" y="357"/>
                          </a:lnTo>
                          <a:lnTo>
                            <a:pt x="229" y="366"/>
                          </a:lnTo>
                          <a:lnTo>
                            <a:pt x="256" y="377"/>
                          </a:lnTo>
                          <a:lnTo>
                            <a:pt x="272" y="379"/>
                          </a:lnTo>
                          <a:lnTo>
                            <a:pt x="289" y="383"/>
                          </a:lnTo>
                          <a:lnTo>
                            <a:pt x="305" y="389"/>
                          </a:lnTo>
                          <a:lnTo>
                            <a:pt x="321" y="396"/>
                          </a:lnTo>
                          <a:lnTo>
                            <a:pt x="334" y="405"/>
                          </a:lnTo>
                          <a:lnTo>
                            <a:pt x="347" y="416"/>
                          </a:lnTo>
                          <a:lnTo>
                            <a:pt x="356" y="413"/>
                          </a:lnTo>
                          <a:lnTo>
                            <a:pt x="367" y="412"/>
                          </a:lnTo>
                          <a:lnTo>
                            <a:pt x="374" y="415"/>
                          </a:lnTo>
                          <a:lnTo>
                            <a:pt x="378" y="419"/>
                          </a:lnTo>
                          <a:lnTo>
                            <a:pt x="384" y="428"/>
                          </a:lnTo>
                          <a:lnTo>
                            <a:pt x="404" y="429"/>
                          </a:lnTo>
                          <a:lnTo>
                            <a:pt x="432" y="432"/>
                          </a:lnTo>
                          <a:lnTo>
                            <a:pt x="463" y="436"/>
                          </a:lnTo>
                          <a:lnTo>
                            <a:pt x="490" y="438"/>
                          </a:lnTo>
                          <a:lnTo>
                            <a:pt x="507" y="441"/>
                          </a:lnTo>
                          <a:lnTo>
                            <a:pt x="514" y="445"/>
                          </a:lnTo>
                          <a:lnTo>
                            <a:pt x="516" y="451"/>
                          </a:lnTo>
                          <a:lnTo>
                            <a:pt x="514" y="456"/>
                          </a:lnTo>
                          <a:lnTo>
                            <a:pt x="505" y="462"/>
                          </a:lnTo>
                          <a:lnTo>
                            <a:pt x="490" y="468"/>
                          </a:lnTo>
                          <a:lnTo>
                            <a:pt x="470" y="475"/>
                          </a:lnTo>
                          <a:lnTo>
                            <a:pt x="452" y="478"/>
                          </a:lnTo>
                          <a:lnTo>
                            <a:pt x="435" y="479"/>
                          </a:lnTo>
                          <a:lnTo>
                            <a:pt x="421" y="480"/>
                          </a:lnTo>
                          <a:lnTo>
                            <a:pt x="443" y="492"/>
                          </a:lnTo>
                          <a:lnTo>
                            <a:pt x="459" y="501"/>
                          </a:lnTo>
                          <a:lnTo>
                            <a:pt x="470" y="509"/>
                          </a:lnTo>
                          <a:lnTo>
                            <a:pt x="476" y="518"/>
                          </a:lnTo>
                          <a:lnTo>
                            <a:pt x="475" y="528"/>
                          </a:lnTo>
                          <a:lnTo>
                            <a:pt x="470" y="533"/>
                          </a:lnTo>
                          <a:lnTo>
                            <a:pt x="462" y="536"/>
                          </a:lnTo>
                          <a:lnTo>
                            <a:pt x="448" y="537"/>
                          </a:lnTo>
                          <a:lnTo>
                            <a:pt x="429" y="535"/>
                          </a:lnTo>
                          <a:lnTo>
                            <a:pt x="410" y="532"/>
                          </a:lnTo>
                          <a:lnTo>
                            <a:pt x="400" y="531"/>
                          </a:lnTo>
                          <a:lnTo>
                            <a:pt x="393" y="533"/>
                          </a:lnTo>
                          <a:lnTo>
                            <a:pt x="389" y="538"/>
                          </a:lnTo>
                          <a:lnTo>
                            <a:pt x="391" y="544"/>
                          </a:lnTo>
                          <a:lnTo>
                            <a:pt x="397" y="550"/>
                          </a:lnTo>
                          <a:lnTo>
                            <a:pt x="405" y="559"/>
                          </a:lnTo>
                          <a:lnTo>
                            <a:pt x="421" y="576"/>
                          </a:lnTo>
                          <a:lnTo>
                            <a:pt x="430" y="589"/>
                          </a:lnTo>
                          <a:lnTo>
                            <a:pt x="430" y="598"/>
                          </a:lnTo>
                          <a:lnTo>
                            <a:pt x="426" y="606"/>
                          </a:lnTo>
                          <a:lnTo>
                            <a:pt x="419" y="609"/>
                          </a:lnTo>
                          <a:lnTo>
                            <a:pt x="409" y="610"/>
                          </a:lnTo>
                          <a:lnTo>
                            <a:pt x="388" y="605"/>
                          </a:lnTo>
                          <a:lnTo>
                            <a:pt x="367" y="601"/>
                          </a:lnTo>
                          <a:lnTo>
                            <a:pt x="348" y="598"/>
                          </a:lnTo>
                          <a:lnTo>
                            <a:pt x="314" y="587"/>
                          </a:lnTo>
                          <a:lnTo>
                            <a:pt x="287" y="573"/>
                          </a:lnTo>
                          <a:lnTo>
                            <a:pt x="255" y="555"/>
                          </a:lnTo>
                          <a:lnTo>
                            <a:pt x="232" y="540"/>
                          </a:lnTo>
                          <a:lnTo>
                            <a:pt x="207" y="524"/>
                          </a:lnTo>
                          <a:lnTo>
                            <a:pt x="181" y="505"/>
                          </a:lnTo>
                          <a:lnTo>
                            <a:pt x="156" y="486"/>
                          </a:lnTo>
                          <a:lnTo>
                            <a:pt x="125" y="465"/>
                          </a:lnTo>
                          <a:lnTo>
                            <a:pt x="99" y="450"/>
                          </a:lnTo>
                          <a:lnTo>
                            <a:pt x="66" y="432"/>
                          </a:lnTo>
                          <a:lnTo>
                            <a:pt x="40" y="416"/>
                          </a:lnTo>
                          <a:lnTo>
                            <a:pt x="25" y="405"/>
                          </a:lnTo>
                          <a:lnTo>
                            <a:pt x="11" y="394"/>
                          </a:lnTo>
                          <a:lnTo>
                            <a:pt x="1" y="379"/>
                          </a:lnTo>
                          <a:lnTo>
                            <a:pt x="0" y="365"/>
                          </a:lnTo>
                          <a:lnTo>
                            <a:pt x="4" y="352"/>
                          </a:lnTo>
                          <a:lnTo>
                            <a:pt x="14" y="341"/>
                          </a:lnTo>
                          <a:lnTo>
                            <a:pt x="32" y="328"/>
                          </a:lnTo>
                          <a:lnTo>
                            <a:pt x="66" y="280"/>
                          </a:lnTo>
                          <a:lnTo>
                            <a:pt x="90" y="246"/>
                          </a:lnTo>
                          <a:lnTo>
                            <a:pt x="102" y="220"/>
                          </a:lnTo>
                          <a:lnTo>
                            <a:pt x="167" y="49"/>
                          </a:lnTo>
                          <a:lnTo>
                            <a:pt x="186" y="0"/>
                          </a:lnTo>
                          <a:close/>
                        </a:path>
                      </a:pathLst>
                    </a:custGeom>
                    <a:solidFill>
                      <a:srgbClr val="ffbf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46" name=""/>
                    <p:cNvGrpSpPr/>
                    <p:nvPr/>
                  </p:nvGrpSpPr>
                  <p:grpSpPr>
                    <a:xfrm>
                      <a:off x="2892960" y="2928960"/>
                      <a:ext cx="415800" cy="355320"/>
                      <a:chOff x="2892960" y="2928960"/>
                      <a:chExt cx="415800" cy="355320"/>
                    </a:xfrm>
                  </p:grpSpPr>
                  <p:sp>
                    <p:nvSpPr>
                      <p:cNvPr id="347" name=""/>
                      <p:cNvSpPr/>
                      <p:nvPr/>
                    </p:nvSpPr>
                    <p:spPr>
                      <a:xfrm rot="1475400">
                        <a:off x="3216240" y="3201840"/>
                        <a:ext cx="378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53">
                            <a:moveTo>
                              <a:pt x="22" y="0"/>
                            </a:moveTo>
                            <a:lnTo>
                              <a:pt x="25" y="7"/>
                            </a:lnTo>
                            <a:lnTo>
                              <a:pt x="27" y="15"/>
                            </a:lnTo>
                            <a:lnTo>
                              <a:pt x="26" y="24"/>
                            </a:lnTo>
                            <a:lnTo>
                              <a:pt x="22" y="36"/>
                            </a:lnTo>
                            <a:lnTo>
                              <a:pt x="18" y="42"/>
                            </a:lnTo>
                            <a:lnTo>
                              <a:pt x="10" y="48"/>
                            </a:lnTo>
                            <a:lnTo>
                              <a:pt x="0" y="53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" name=""/>
                      <p:cNvSpPr/>
                      <p:nvPr/>
                    </p:nvSpPr>
                    <p:spPr>
                      <a:xfrm rot="1475400">
                        <a:off x="3270600" y="3237120"/>
                        <a:ext cx="30600" cy="42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1">
                            <a:moveTo>
                              <a:pt x="15" y="0"/>
                            </a:moveTo>
                            <a:lnTo>
                              <a:pt x="20" y="10"/>
                            </a:lnTo>
                            <a:lnTo>
                              <a:pt x="22" y="16"/>
                            </a:lnTo>
                            <a:lnTo>
                              <a:pt x="20" y="23"/>
                            </a:lnTo>
                            <a:lnTo>
                              <a:pt x="16" y="29"/>
                            </a:lnTo>
                            <a:lnTo>
                              <a:pt x="10" y="34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" bIns="-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 rot="1475400">
                        <a:off x="2912400" y="2935440"/>
                        <a:ext cx="5472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101">
                            <a:moveTo>
                              <a:pt x="39" y="0"/>
                            </a:moveTo>
                            <a:lnTo>
                              <a:pt x="27" y="11"/>
                            </a:lnTo>
                            <a:lnTo>
                              <a:pt x="15" y="26"/>
                            </a:lnTo>
                            <a:lnTo>
                              <a:pt x="8" y="40"/>
                            </a:lnTo>
                            <a:lnTo>
                              <a:pt x="3" y="50"/>
                            </a:lnTo>
                            <a:lnTo>
                              <a:pt x="0" y="62"/>
                            </a:lnTo>
                            <a:lnTo>
                              <a:pt x="0" y="73"/>
                            </a:lnTo>
                            <a:lnTo>
                              <a:pt x="3" y="85"/>
                            </a:lnTo>
                            <a:lnTo>
                              <a:pt x="11" y="10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2884320" y="1393200"/>
                  <a:ext cx="1665720" cy="1566360"/>
                  <a:chOff x="2884320" y="1393200"/>
                  <a:chExt cx="1665720" cy="1566360"/>
                </a:xfrm>
              </p:grpSpPr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884320" y="1393200"/>
                    <a:ext cx="1665720" cy="1566360"/>
                    <a:chOff x="2884320" y="1393200"/>
                    <a:chExt cx="1665720" cy="1566360"/>
                  </a:xfrm>
                </p:grpSpPr>
                <p:grpSp>
                  <p:nvGrpSpPr>
                    <p:cNvPr id="352" name=""/>
                    <p:cNvGrpSpPr/>
                    <p:nvPr/>
                  </p:nvGrpSpPr>
                  <p:grpSpPr>
                    <a:xfrm>
                      <a:off x="3090600" y="1393200"/>
                      <a:ext cx="568080" cy="399960"/>
                      <a:chOff x="3090600" y="1393200"/>
                      <a:chExt cx="568080" cy="399960"/>
                    </a:xfrm>
                  </p:grpSpPr>
                  <p:grpSp>
                    <p:nvGrpSpPr>
                      <p:cNvPr id="353" name=""/>
                      <p:cNvGrpSpPr/>
                      <p:nvPr/>
                    </p:nvGrpSpPr>
                    <p:grpSpPr>
                      <a:xfrm>
                        <a:off x="3090600" y="1453320"/>
                        <a:ext cx="400680" cy="339840"/>
                        <a:chOff x="3090600" y="1453320"/>
                        <a:chExt cx="400680" cy="339840"/>
                      </a:xfrm>
                    </p:grpSpPr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rot="1475400">
                          <a:off x="3120120" y="1514160"/>
                          <a:ext cx="341280" cy="21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3" h="209">
                              <a:moveTo>
                                <a:pt x="140" y="0"/>
                              </a:moveTo>
                              <a:lnTo>
                                <a:pt x="92" y="8"/>
                              </a:lnTo>
                              <a:lnTo>
                                <a:pt x="83" y="12"/>
                              </a:lnTo>
                              <a:lnTo>
                                <a:pt x="93" y="42"/>
                              </a:lnTo>
                              <a:lnTo>
                                <a:pt x="78" y="42"/>
                              </a:lnTo>
                              <a:lnTo>
                                <a:pt x="72" y="45"/>
                              </a:lnTo>
                              <a:lnTo>
                                <a:pt x="66" y="87"/>
                              </a:lnTo>
                              <a:lnTo>
                                <a:pt x="56" y="84"/>
                              </a:lnTo>
                              <a:lnTo>
                                <a:pt x="31" y="96"/>
                              </a:lnTo>
                              <a:lnTo>
                                <a:pt x="5" y="117"/>
                              </a:lnTo>
                              <a:lnTo>
                                <a:pt x="0" y="138"/>
                              </a:lnTo>
                              <a:lnTo>
                                <a:pt x="6" y="158"/>
                              </a:lnTo>
                              <a:lnTo>
                                <a:pt x="17" y="170"/>
                              </a:lnTo>
                              <a:lnTo>
                                <a:pt x="26" y="177"/>
                              </a:lnTo>
                              <a:lnTo>
                                <a:pt x="41" y="173"/>
                              </a:lnTo>
                              <a:lnTo>
                                <a:pt x="59" y="171"/>
                              </a:lnTo>
                              <a:lnTo>
                                <a:pt x="75" y="174"/>
                              </a:lnTo>
                              <a:lnTo>
                                <a:pt x="92" y="179"/>
                              </a:lnTo>
                              <a:lnTo>
                                <a:pt x="110" y="189"/>
                              </a:lnTo>
                              <a:lnTo>
                                <a:pt x="131" y="209"/>
                              </a:lnTo>
                              <a:lnTo>
                                <a:pt x="188" y="207"/>
                              </a:lnTo>
                              <a:lnTo>
                                <a:pt x="243" y="189"/>
                              </a:lnTo>
                              <a:lnTo>
                                <a:pt x="158" y="0"/>
                              </a:lnTo>
                              <a:lnTo>
                                <a:pt x="1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>
                          <a:off x="3229920" y="1575360"/>
                          <a:ext cx="105480" cy="79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120" bIns="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>
                          <a:off x="3280680" y="1545840"/>
                          <a:ext cx="83160" cy="50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0" bIns="3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57" name=""/>
                      <p:cNvSpPr/>
                      <p:nvPr/>
                    </p:nvSpPr>
                    <p:spPr>
                      <a:xfrm rot="1475400">
                        <a:off x="3288240" y="1621800"/>
                        <a:ext cx="1321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140">
                            <a:moveTo>
                              <a:pt x="0" y="12"/>
                            </a:moveTo>
                            <a:lnTo>
                              <a:pt x="49" y="0"/>
                            </a:lnTo>
                            <a:lnTo>
                              <a:pt x="94" y="125"/>
                            </a:lnTo>
                            <a:lnTo>
                              <a:pt x="39" y="14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dfd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 rot="1475400">
                        <a:off x="3233880" y="1639440"/>
                        <a:ext cx="13032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125">
                            <a:moveTo>
                              <a:pt x="59" y="0"/>
                            </a:moveTo>
                            <a:lnTo>
                              <a:pt x="30" y="1"/>
                            </a:lnTo>
                            <a:lnTo>
                              <a:pt x="12" y="25"/>
                            </a:lnTo>
                            <a:lnTo>
                              <a:pt x="9" y="37"/>
                            </a:lnTo>
                            <a:lnTo>
                              <a:pt x="12" y="49"/>
                            </a:lnTo>
                            <a:lnTo>
                              <a:pt x="27" y="67"/>
                            </a:lnTo>
                            <a:lnTo>
                              <a:pt x="9" y="85"/>
                            </a:lnTo>
                            <a:lnTo>
                              <a:pt x="0" y="99"/>
                            </a:lnTo>
                            <a:lnTo>
                              <a:pt x="5" y="113"/>
                            </a:lnTo>
                            <a:lnTo>
                              <a:pt x="14" y="125"/>
                            </a:lnTo>
                            <a:lnTo>
                              <a:pt x="41" y="123"/>
                            </a:lnTo>
                            <a:lnTo>
                              <a:pt x="71" y="114"/>
                            </a:lnTo>
                            <a:lnTo>
                              <a:pt x="83" y="99"/>
                            </a:lnTo>
                            <a:lnTo>
                              <a:pt x="93" y="25"/>
                            </a:lnTo>
                            <a:lnTo>
                              <a:pt x="71" y="16"/>
                            </a:lnTo>
                            <a:lnTo>
                              <a:pt x="5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 rot="1475400">
                        <a:off x="3319920" y="1444680"/>
                        <a:ext cx="301680" cy="24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5" h="234">
                            <a:moveTo>
                              <a:pt x="89" y="224"/>
                            </a:moveTo>
                            <a:lnTo>
                              <a:pt x="62" y="233"/>
                            </a:lnTo>
                            <a:lnTo>
                              <a:pt x="53" y="234"/>
                            </a:lnTo>
                            <a:lnTo>
                              <a:pt x="45" y="231"/>
                            </a:lnTo>
                            <a:lnTo>
                              <a:pt x="39" y="222"/>
                            </a:lnTo>
                            <a:lnTo>
                              <a:pt x="12" y="179"/>
                            </a:lnTo>
                            <a:lnTo>
                              <a:pt x="0" y="143"/>
                            </a:lnTo>
                            <a:lnTo>
                              <a:pt x="5" y="101"/>
                            </a:lnTo>
                            <a:lnTo>
                              <a:pt x="14" y="62"/>
                            </a:lnTo>
                            <a:lnTo>
                              <a:pt x="21" y="62"/>
                            </a:lnTo>
                            <a:lnTo>
                              <a:pt x="39" y="68"/>
                            </a:lnTo>
                            <a:lnTo>
                              <a:pt x="68" y="83"/>
                            </a:lnTo>
                            <a:lnTo>
                              <a:pt x="71" y="54"/>
                            </a:lnTo>
                            <a:lnTo>
                              <a:pt x="77" y="39"/>
                            </a:lnTo>
                            <a:lnTo>
                              <a:pt x="93" y="32"/>
                            </a:lnTo>
                            <a:lnTo>
                              <a:pt x="114" y="29"/>
                            </a:lnTo>
                            <a:lnTo>
                              <a:pt x="140" y="29"/>
                            </a:lnTo>
                            <a:lnTo>
                              <a:pt x="143" y="18"/>
                            </a:lnTo>
                            <a:lnTo>
                              <a:pt x="146" y="9"/>
                            </a:lnTo>
                            <a:lnTo>
                              <a:pt x="155" y="1"/>
                            </a:lnTo>
                            <a:lnTo>
                              <a:pt x="168" y="0"/>
                            </a:lnTo>
                            <a:lnTo>
                              <a:pt x="191" y="3"/>
                            </a:lnTo>
                            <a:lnTo>
                              <a:pt x="176" y="19"/>
                            </a:lnTo>
                            <a:lnTo>
                              <a:pt x="191" y="45"/>
                            </a:lnTo>
                            <a:lnTo>
                              <a:pt x="215" y="74"/>
                            </a:lnTo>
                            <a:lnTo>
                              <a:pt x="89" y="22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0" name=""/>
                    <p:cNvGrpSpPr/>
                    <p:nvPr/>
                  </p:nvGrpSpPr>
                  <p:grpSpPr>
                    <a:xfrm>
                      <a:off x="3530160" y="1429920"/>
                      <a:ext cx="1019880" cy="890640"/>
                      <a:chOff x="3530160" y="1429920"/>
                      <a:chExt cx="1019880" cy="890640"/>
                    </a:xfrm>
                  </p:grpSpPr>
                  <p:grpSp>
                    <p:nvGrpSpPr>
                      <p:cNvPr id="361" name=""/>
                      <p:cNvGrpSpPr/>
                      <p:nvPr/>
                    </p:nvGrpSpPr>
                    <p:grpSpPr>
                      <a:xfrm>
                        <a:off x="3530160" y="1429920"/>
                        <a:ext cx="783000" cy="789120"/>
                        <a:chOff x="3530160" y="1429920"/>
                        <a:chExt cx="783000" cy="789120"/>
                      </a:xfrm>
                    </p:grpSpPr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 rot="1475400">
                          <a:off x="3627720" y="1524600"/>
                          <a:ext cx="587160" cy="59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8" h="575">
                              <a:moveTo>
                                <a:pt x="17" y="192"/>
                              </a:moveTo>
                              <a:lnTo>
                                <a:pt x="40" y="148"/>
                              </a:lnTo>
                              <a:lnTo>
                                <a:pt x="71" y="103"/>
                              </a:lnTo>
                              <a:lnTo>
                                <a:pt x="101" y="60"/>
                              </a:lnTo>
                              <a:lnTo>
                                <a:pt x="167" y="24"/>
                              </a:lnTo>
                              <a:lnTo>
                                <a:pt x="159" y="64"/>
                              </a:lnTo>
                              <a:lnTo>
                                <a:pt x="225" y="0"/>
                              </a:lnTo>
                              <a:lnTo>
                                <a:pt x="216" y="21"/>
                              </a:lnTo>
                              <a:lnTo>
                                <a:pt x="210" y="48"/>
                              </a:lnTo>
                              <a:lnTo>
                                <a:pt x="263" y="0"/>
                              </a:lnTo>
                              <a:lnTo>
                                <a:pt x="218" y="66"/>
                              </a:lnTo>
                              <a:lnTo>
                                <a:pt x="212" y="91"/>
                              </a:lnTo>
                              <a:lnTo>
                                <a:pt x="237" y="60"/>
                              </a:lnTo>
                              <a:lnTo>
                                <a:pt x="285" y="39"/>
                              </a:lnTo>
                              <a:lnTo>
                                <a:pt x="332" y="37"/>
                              </a:lnTo>
                              <a:lnTo>
                                <a:pt x="284" y="66"/>
                              </a:lnTo>
                              <a:lnTo>
                                <a:pt x="266" y="102"/>
                              </a:lnTo>
                              <a:lnTo>
                                <a:pt x="269" y="122"/>
                              </a:lnTo>
                              <a:lnTo>
                                <a:pt x="284" y="123"/>
                              </a:lnTo>
                              <a:lnTo>
                                <a:pt x="308" y="135"/>
                              </a:lnTo>
                              <a:lnTo>
                                <a:pt x="342" y="161"/>
                              </a:lnTo>
                              <a:lnTo>
                                <a:pt x="335" y="173"/>
                              </a:lnTo>
                              <a:lnTo>
                                <a:pt x="333" y="183"/>
                              </a:lnTo>
                              <a:lnTo>
                                <a:pt x="338" y="198"/>
                              </a:lnTo>
                              <a:lnTo>
                                <a:pt x="347" y="210"/>
                              </a:lnTo>
                              <a:lnTo>
                                <a:pt x="362" y="222"/>
                              </a:lnTo>
                              <a:lnTo>
                                <a:pt x="382" y="231"/>
                              </a:lnTo>
                              <a:lnTo>
                                <a:pt x="401" y="237"/>
                              </a:lnTo>
                              <a:lnTo>
                                <a:pt x="418" y="240"/>
                              </a:lnTo>
                              <a:lnTo>
                                <a:pt x="395" y="267"/>
                              </a:lnTo>
                              <a:lnTo>
                                <a:pt x="379" y="294"/>
                              </a:lnTo>
                              <a:lnTo>
                                <a:pt x="362" y="324"/>
                              </a:lnTo>
                              <a:lnTo>
                                <a:pt x="347" y="355"/>
                              </a:lnTo>
                              <a:lnTo>
                                <a:pt x="333" y="388"/>
                              </a:lnTo>
                              <a:lnTo>
                                <a:pt x="306" y="404"/>
                              </a:lnTo>
                              <a:lnTo>
                                <a:pt x="265" y="407"/>
                              </a:lnTo>
                              <a:lnTo>
                                <a:pt x="237" y="398"/>
                              </a:lnTo>
                              <a:lnTo>
                                <a:pt x="219" y="392"/>
                              </a:lnTo>
                              <a:lnTo>
                                <a:pt x="202" y="402"/>
                              </a:lnTo>
                              <a:lnTo>
                                <a:pt x="207" y="436"/>
                              </a:lnTo>
                              <a:lnTo>
                                <a:pt x="224" y="474"/>
                              </a:lnTo>
                              <a:lnTo>
                                <a:pt x="234" y="499"/>
                              </a:lnTo>
                              <a:lnTo>
                                <a:pt x="234" y="520"/>
                              </a:lnTo>
                              <a:lnTo>
                                <a:pt x="216" y="575"/>
                              </a:lnTo>
                              <a:lnTo>
                                <a:pt x="12" y="553"/>
                              </a:lnTo>
                              <a:lnTo>
                                <a:pt x="3" y="383"/>
                              </a:lnTo>
                              <a:lnTo>
                                <a:pt x="0" y="284"/>
                              </a:lnTo>
                              <a:lnTo>
                                <a:pt x="6" y="228"/>
                              </a:lnTo>
                              <a:lnTo>
                                <a:pt x="17" y="1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 rot="1475400">
                          <a:off x="4047120" y="1752840"/>
                          <a:ext cx="9252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17">
                              <a:moveTo>
                                <a:pt x="66" y="17"/>
                              </a:moveTo>
                              <a:lnTo>
                                <a:pt x="54" y="11"/>
                              </a:lnTo>
                              <a:lnTo>
                                <a:pt x="39" y="5"/>
                              </a:lnTo>
                              <a:lnTo>
                                <a:pt x="27" y="0"/>
                              </a:lnTo>
                              <a:lnTo>
                                <a:pt x="13" y="3"/>
                              </a:lnTo>
                              <a:lnTo>
                                <a:pt x="0" y="12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64" name=""/>
                      <p:cNvGrpSpPr/>
                      <p:nvPr/>
                    </p:nvGrpSpPr>
                    <p:grpSpPr>
                      <a:xfrm>
                        <a:off x="3788280" y="1761480"/>
                        <a:ext cx="761760" cy="559080"/>
                        <a:chOff x="3788280" y="1761480"/>
                        <a:chExt cx="761760" cy="559080"/>
                      </a:xfrm>
                    </p:grpSpPr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 rot="1475400">
                          <a:off x="3817080" y="1894320"/>
                          <a:ext cx="703800" cy="29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1" h="281">
                              <a:moveTo>
                                <a:pt x="0" y="164"/>
                              </a:moveTo>
                              <a:lnTo>
                                <a:pt x="49" y="132"/>
                              </a:lnTo>
                              <a:lnTo>
                                <a:pt x="115" y="153"/>
                              </a:lnTo>
                              <a:lnTo>
                                <a:pt x="154" y="128"/>
                              </a:lnTo>
                              <a:lnTo>
                                <a:pt x="183" y="77"/>
                              </a:lnTo>
                              <a:lnTo>
                                <a:pt x="215" y="30"/>
                              </a:lnTo>
                              <a:lnTo>
                                <a:pt x="230" y="0"/>
                              </a:lnTo>
                              <a:lnTo>
                                <a:pt x="263" y="3"/>
                              </a:lnTo>
                              <a:lnTo>
                                <a:pt x="285" y="11"/>
                              </a:lnTo>
                              <a:lnTo>
                                <a:pt x="303" y="33"/>
                              </a:lnTo>
                              <a:lnTo>
                                <a:pt x="326" y="63"/>
                              </a:lnTo>
                              <a:lnTo>
                                <a:pt x="350" y="90"/>
                              </a:lnTo>
                              <a:lnTo>
                                <a:pt x="384" y="117"/>
                              </a:lnTo>
                              <a:lnTo>
                                <a:pt x="419" y="141"/>
                              </a:lnTo>
                              <a:lnTo>
                                <a:pt x="446" y="159"/>
                              </a:lnTo>
                              <a:lnTo>
                                <a:pt x="465" y="168"/>
                              </a:lnTo>
                              <a:lnTo>
                                <a:pt x="482" y="172"/>
                              </a:lnTo>
                              <a:lnTo>
                                <a:pt x="501" y="168"/>
                              </a:lnTo>
                              <a:lnTo>
                                <a:pt x="500" y="191"/>
                              </a:lnTo>
                              <a:lnTo>
                                <a:pt x="494" y="215"/>
                              </a:lnTo>
                              <a:lnTo>
                                <a:pt x="476" y="243"/>
                              </a:lnTo>
                              <a:lnTo>
                                <a:pt x="458" y="265"/>
                              </a:lnTo>
                              <a:lnTo>
                                <a:pt x="440" y="275"/>
                              </a:lnTo>
                              <a:lnTo>
                                <a:pt x="419" y="266"/>
                              </a:lnTo>
                              <a:lnTo>
                                <a:pt x="396" y="253"/>
                              </a:lnTo>
                              <a:lnTo>
                                <a:pt x="371" y="242"/>
                              </a:lnTo>
                              <a:lnTo>
                                <a:pt x="342" y="233"/>
                              </a:lnTo>
                              <a:lnTo>
                                <a:pt x="320" y="248"/>
                              </a:lnTo>
                              <a:lnTo>
                                <a:pt x="290" y="266"/>
                              </a:lnTo>
                              <a:lnTo>
                                <a:pt x="269" y="250"/>
                              </a:lnTo>
                              <a:lnTo>
                                <a:pt x="234" y="228"/>
                              </a:lnTo>
                              <a:lnTo>
                                <a:pt x="212" y="240"/>
                              </a:lnTo>
                              <a:lnTo>
                                <a:pt x="181" y="254"/>
                              </a:lnTo>
                              <a:lnTo>
                                <a:pt x="141" y="263"/>
                              </a:lnTo>
                              <a:lnTo>
                                <a:pt x="88" y="275"/>
                              </a:lnTo>
                              <a:lnTo>
                                <a:pt x="48" y="281"/>
                              </a:lnTo>
                              <a:lnTo>
                                <a:pt x="28" y="253"/>
                              </a:lnTo>
                              <a:lnTo>
                                <a:pt x="21" y="236"/>
                              </a:lnTo>
                              <a:lnTo>
                                <a:pt x="7" y="197"/>
                              </a:lnTo>
                              <a:lnTo>
                                <a:pt x="0" y="1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f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3886920" y="1985040"/>
                          <a:ext cx="546480" cy="214200"/>
                          <a:chOff x="3886920" y="1985040"/>
                          <a:chExt cx="546480" cy="214200"/>
                        </a:xfrm>
                      </p:grpSpPr>
                      <p:sp>
                        <p:nvSpPr>
                          <p:cNvPr id="367" name=""/>
                          <p:cNvSpPr/>
                          <p:nvPr/>
                        </p:nvSpPr>
                        <p:spPr>
                          <a:xfrm rot="1475400">
                            <a:off x="4201560" y="2025000"/>
                            <a:ext cx="57240" cy="3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" h="30">
                                <a:moveTo>
                                  <a:pt x="8" y="0"/>
                                </a:moveTo>
                                <a:lnTo>
                                  <a:pt x="41" y="19"/>
                                </a:lnTo>
                                <a:lnTo>
                                  <a:pt x="0" y="30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840" bIns="-15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8" name=""/>
                          <p:cNvSpPr/>
                          <p:nvPr/>
                        </p:nvSpPr>
                        <p:spPr>
                          <a:xfrm flipH="1">
                            <a:off x="4374720" y="2198880"/>
                            <a:ext cx="5868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9" name=""/>
                          <p:cNvSpPr/>
                          <p:nvPr/>
                        </p:nvSpPr>
                        <p:spPr>
                          <a:xfrm rot="1475400">
                            <a:off x="3893400" y="1997280"/>
                            <a:ext cx="70200" cy="46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" h="45">
                                <a:moveTo>
                                  <a:pt x="50" y="0"/>
                                </a:moveTo>
                                <a:lnTo>
                                  <a:pt x="27" y="10"/>
                                </a:lnTo>
                                <a:lnTo>
                                  <a:pt x="15" y="21"/>
                                </a:lnTo>
                                <a:lnTo>
                                  <a:pt x="8" y="31"/>
                                </a:lnTo>
                                <a:lnTo>
                                  <a:pt x="0" y="45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0" bIns="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0" name=""/>
                          <p:cNvSpPr/>
                          <p:nvPr/>
                        </p:nvSpPr>
                        <p:spPr>
                          <a:xfrm rot="1475400">
                            <a:off x="3901320" y="2068920"/>
                            <a:ext cx="369360" cy="35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34">
                                <a:moveTo>
                                  <a:pt x="0" y="25"/>
                                </a:moveTo>
                                <a:lnTo>
                                  <a:pt x="33" y="16"/>
                                </a:lnTo>
                                <a:lnTo>
                                  <a:pt x="72" y="9"/>
                                </a:lnTo>
                                <a:lnTo>
                                  <a:pt x="105" y="2"/>
                                </a:lnTo>
                                <a:lnTo>
                                  <a:pt x="134" y="0"/>
                                </a:lnTo>
                                <a:lnTo>
                                  <a:pt x="164" y="3"/>
                                </a:lnTo>
                                <a:lnTo>
                                  <a:pt x="194" y="9"/>
                                </a:lnTo>
                                <a:lnTo>
                                  <a:pt x="226" y="18"/>
                                </a:lnTo>
                                <a:lnTo>
                                  <a:pt x="263" y="34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371" name=""/>
                    <p:cNvGrpSpPr/>
                    <p:nvPr/>
                  </p:nvGrpSpPr>
                  <p:grpSpPr>
                    <a:xfrm>
                      <a:off x="2884320" y="2126160"/>
                      <a:ext cx="941040" cy="833400"/>
                      <a:chOff x="2884320" y="2126160"/>
                      <a:chExt cx="941040" cy="833400"/>
                    </a:xfrm>
                  </p:grpSpPr>
                  <p:sp>
                    <p:nvSpPr>
                      <p:cNvPr id="372" name=""/>
                      <p:cNvSpPr/>
                      <p:nvPr/>
                    </p:nvSpPr>
                    <p:spPr>
                      <a:xfrm rot="1475400">
                        <a:off x="3319920" y="2660400"/>
                        <a:ext cx="230400" cy="20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4" h="193">
                            <a:moveTo>
                              <a:pt x="110" y="0"/>
                            </a:moveTo>
                            <a:lnTo>
                              <a:pt x="164" y="0"/>
                            </a:lnTo>
                            <a:lnTo>
                              <a:pt x="159" y="28"/>
                            </a:lnTo>
                            <a:lnTo>
                              <a:pt x="153" y="58"/>
                            </a:lnTo>
                            <a:lnTo>
                              <a:pt x="141" y="85"/>
                            </a:lnTo>
                            <a:lnTo>
                              <a:pt x="125" y="108"/>
                            </a:lnTo>
                            <a:lnTo>
                              <a:pt x="102" y="132"/>
                            </a:lnTo>
                            <a:lnTo>
                              <a:pt x="80" y="151"/>
                            </a:lnTo>
                            <a:lnTo>
                              <a:pt x="56" y="177"/>
                            </a:lnTo>
                            <a:lnTo>
                              <a:pt x="44" y="189"/>
                            </a:lnTo>
                            <a:lnTo>
                              <a:pt x="35" y="192"/>
                            </a:lnTo>
                            <a:lnTo>
                              <a:pt x="21" y="193"/>
                            </a:lnTo>
                            <a:lnTo>
                              <a:pt x="0" y="177"/>
                            </a:lnTo>
                            <a:lnTo>
                              <a:pt x="110" y="0"/>
                            </a:lnTo>
                            <a:close/>
                          </a:path>
                        </a:pathLst>
                      </a:custGeom>
                      <a:solidFill>
                        <a:srgbClr val="dfd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" name=""/>
                      <p:cNvSpPr/>
                      <p:nvPr/>
                    </p:nvSpPr>
                    <p:spPr>
                      <a:xfrm rot="1475400">
                        <a:off x="2965320" y="2262600"/>
                        <a:ext cx="778680" cy="56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4" h="538">
                            <a:moveTo>
                              <a:pt x="212" y="397"/>
                            </a:moveTo>
                            <a:lnTo>
                              <a:pt x="209" y="428"/>
                            </a:lnTo>
                            <a:lnTo>
                              <a:pt x="211" y="461"/>
                            </a:lnTo>
                            <a:lnTo>
                              <a:pt x="218" y="494"/>
                            </a:lnTo>
                            <a:lnTo>
                              <a:pt x="224" y="512"/>
                            </a:lnTo>
                            <a:lnTo>
                              <a:pt x="235" y="525"/>
                            </a:lnTo>
                            <a:lnTo>
                              <a:pt x="249" y="524"/>
                            </a:lnTo>
                            <a:lnTo>
                              <a:pt x="266" y="520"/>
                            </a:lnTo>
                            <a:lnTo>
                              <a:pt x="275" y="530"/>
                            </a:lnTo>
                            <a:lnTo>
                              <a:pt x="286" y="536"/>
                            </a:lnTo>
                            <a:lnTo>
                              <a:pt x="299" y="538"/>
                            </a:lnTo>
                            <a:lnTo>
                              <a:pt x="312" y="535"/>
                            </a:lnTo>
                            <a:lnTo>
                              <a:pt x="326" y="524"/>
                            </a:lnTo>
                            <a:lnTo>
                              <a:pt x="339" y="509"/>
                            </a:lnTo>
                            <a:lnTo>
                              <a:pt x="355" y="491"/>
                            </a:lnTo>
                            <a:lnTo>
                              <a:pt x="372" y="472"/>
                            </a:lnTo>
                            <a:lnTo>
                              <a:pt x="388" y="453"/>
                            </a:lnTo>
                            <a:lnTo>
                              <a:pt x="407" y="431"/>
                            </a:lnTo>
                            <a:lnTo>
                              <a:pt x="432" y="394"/>
                            </a:lnTo>
                            <a:lnTo>
                              <a:pt x="455" y="365"/>
                            </a:lnTo>
                            <a:lnTo>
                              <a:pt x="483" y="340"/>
                            </a:lnTo>
                            <a:lnTo>
                              <a:pt x="503" y="325"/>
                            </a:lnTo>
                            <a:lnTo>
                              <a:pt x="522" y="303"/>
                            </a:lnTo>
                            <a:lnTo>
                              <a:pt x="540" y="275"/>
                            </a:lnTo>
                            <a:lnTo>
                              <a:pt x="549" y="247"/>
                            </a:lnTo>
                            <a:lnTo>
                              <a:pt x="554" y="213"/>
                            </a:lnTo>
                            <a:lnTo>
                              <a:pt x="543" y="168"/>
                            </a:lnTo>
                            <a:lnTo>
                              <a:pt x="127" y="50"/>
                            </a:lnTo>
                            <a:lnTo>
                              <a:pt x="105" y="47"/>
                            </a:lnTo>
                            <a:lnTo>
                              <a:pt x="79" y="24"/>
                            </a:lnTo>
                            <a:lnTo>
                              <a:pt x="46" y="0"/>
                            </a:lnTo>
                            <a:lnTo>
                              <a:pt x="0" y="33"/>
                            </a:lnTo>
                            <a:lnTo>
                              <a:pt x="13" y="53"/>
                            </a:lnTo>
                            <a:lnTo>
                              <a:pt x="36" y="75"/>
                            </a:lnTo>
                            <a:lnTo>
                              <a:pt x="16" y="87"/>
                            </a:lnTo>
                            <a:lnTo>
                              <a:pt x="1" y="104"/>
                            </a:lnTo>
                            <a:lnTo>
                              <a:pt x="22" y="116"/>
                            </a:lnTo>
                            <a:lnTo>
                              <a:pt x="36" y="130"/>
                            </a:lnTo>
                            <a:lnTo>
                              <a:pt x="45" y="152"/>
                            </a:lnTo>
                            <a:lnTo>
                              <a:pt x="48" y="170"/>
                            </a:lnTo>
                            <a:lnTo>
                              <a:pt x="13" y="164"/>
                            </a:lnTo>
                            <a:lnTo>
                              <a:pt x="10" y="183"/>
                            </a:lnTo>
                            <a:lnTo>
                              <a:pt x="16" y="209"/>
                            </a:lnTo>
                            <a:lnTo>
                              <a:pt x="34" y="235"/>
                            </a:lnTo>
                            <a:lnTo>
                              <a:pt x="53" y="253"/>
                            </a:lnTo>
                            <a:lnTo>
                              <a:pt x="81" y="267"/>
                            </a:lnTo>
                            <a:lnTo>
                              <a:pt x="108" y="274"/>
                            </a:lnTo>
                            <a:lnTo>
                              <a:pt x="112" y="301"/>
                            </a:lnTo>
                            <a:lnTo>
                              <a:pt x="129" y="325"/>
                            </a:lnTo>
                            <a:lnTo>
                              <a:pt x="151" y="352"/>
                            </a:lnTo>
                            <a:lnTo>
                              <a:pt x="179" y="377"/>
                            </a:lnTo>
                            <a:lnTo>
                              <a:pt x="212" y="39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3731400" y="1669680"/>
                    <a:ext cx="569160" cy="363600"/>
                    <a:chOff x="3731400" y="1669680"/>
                    <a:chExt cx="569160" cy="36360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1475400">
                      <a:off x="3728520" y="1752840"/>
                      <a:ext cx="41760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74">
                          <a:moveTo>
                            <a:pt x="0" y="53"/>
                          </a:moveTo>
                          <a:lnTo>
                            <a:pt x="21" y="26"/>
                          </a:lnTo>
                          <a:lnTo>
                            <a:pt x="48" y="4"/>
                          </a:lnTo>
                          <a:lnTo>
                            <a:pt x="70" y="0"/>
                          </a:lnTo>
                          <a:lnTo>
                            <a:pt x="297" y="29"/>
                          </a:lnTo>
                          <a:lnTo>
                            <a:pt x="291" y="59"/>
                          </a:lnTo>
                          <a:lnTo>
                            <a:pt x="246" y="57"/>
                          </a:lnTo>
                          <a:lnTo>
                            <a:pt x="143" y="53"/>
                          </a:lnTo>
                          <a:lnTo>
                            <a:pt x="76" y="50"/>
                          </a:lnTo>
                          <a:lnTo>
                            <a:pt x="63" y="54"/>
                          </a:lnTo>
                          <a:lnTo>
                            <a:pt x="45" y="74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1475400">
                      <a:off x="4218120" y="1828440"/>
                      <a:ext cx="6156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10">
                          <a:moveTo>
                            <a:pt x="14" y="0"/>
                          </a:moveTo>
                          <a:lnTo>
                            <a:pt x="29" y="15"/>
                          </a:lnTo>
                          <a:lnTo>
                            <a:pt x="36" y="29"/>
                          </a:lnTo>
                          <a:lnTo>
                            <a:pt x="41" y="47"/>
                          </a:lnTo>
                          <a:lnTo>
                            <a:pt x="44" y="64"/>
                          </a:lnTo>
                          <a:lnTo>
                            <a:pt x="39" y="80"/>
                          </a:lnTo>
                          <a:lnTo>
                            <a:pt x="30" y="94"/>
                          </a:lnTo>
                          <a:lnTo>
                            <a:pt x="16" y="104"/>
                          </a:lnTo>
                          <a:lnTo>
                            <a:pt x="0" y="110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1475400">
                      <a:off x="4186080" y="1787400"/>
                      <a:ext cx="8136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143">
                          <a:moveTo>
                            <a:pt x="0" y="118"/>
                          </a:moveTo>
                          <a:lnTo>
                            <a:pt x="27" y="0"/>
                          </a:lnTo>
                          <a:lnTo>
                            <a:pt x="58" y="15"/>
                          </a:lnTo>
                          <a:lnTo>
                            <a:pt x="31" y="143"/>
                          </a:lnTo>
                          <a:lnTo>
                            <a:pt x="3" y="140"/>
                          </a:lnTo>
                          <a:lnTo>
                            <a:pt x="0" y="118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475400">
                      <a:off x="4121640" y="1791360"/>
                      <a:ext cx="79920" cy="23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25">
                          <a:moveTo>
                            <a:pt x="25" y="0"/>
                          </a:moveTo>
                          <a:lnTo>
                            <a:pt x="40" y="12"/>
                          </a:lnTo>
                          <a:lnTo>
                            <a:pt x="49" y="29"/>
                          </a:lnTo>
                          <a:lnTo>
                            <a:pt x="54" y="49"/>
                          </a:lnTo>
                          <a:lnTo>
                            <a:pt x="57" y="71"/>
                          </a:lnTo>
                          <a:lnTo>
                            <a:pt x="56" y="92"/>
                          </a:lnTo>
                          <a:lnTo>
                            <a:pt x="51" y="122"/>
                          </a:lnTo>
                          <a:lnTo>
                            <a:pt x="44" y="149"/>
                          </a:lnTo>
                          <a:lnTo>
                            <a:pt x="34" y="177"/>
                          </a:lnTo>
                          <a:lnTo>
                            <a:pt x="19" y="200"/>
                          </a:lnTo>
                          <a:lnTo>
                            <a:pt x="0" y="225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475400">
                      <a:off x="4080600" y="1756080"/>
                      <a:ext cx="10404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257">
                          <a:moveTo>
                            <a:pt x="36" y="0"/>
                          </a:moveTo>
                          <a:lnTo>
                            <a:pt x="74" y="4"/>
                          </a:lnTo>
                          <a:lnTo>
                            <a:pt x="36" y="257"/>
                          </a:lnTo>
                          <a:lnTo>
                            <a:pt x="0" y="254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80" name=""/>
              <p:cNvGrpSpPr/>
              <p:nvPr/>
            </p:nvGrpSpPr>
            <p:grpSpPr>
              <a:xfrm>
                <a:off x="3077640" y="1474200"/>
                <a:ext cx="1081080" cy="1291320"/>
                <a:chOff x="3077640" y="1474200"/>
                <a:chExt cx="1081080" cy="129132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3077640" y="1474200"/>
                  <a:ext cx="1081080" cy="1291320"/>
                  <a:chOff x="3077640" y="1474200"/>
                  <a:chExt cx="1081080" cy="1291320"/>
                </a:xfrm>
              </p:grpSpPr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3595680" y="1978560"/>
                    <a:ext cx="350640" cy="317520"/>
                    <a:chOff x="3595680" y="1978560"/>
                    <a:chExt cx="350640" cy="3175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1475400">
                      <a:off x="3610080" y="2023560"/>
                      <a:ext cx="24300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117">
                          <a:moveTo>
                            <a:pt x="0" y="55"/>
                          </a:moveTo>
                          <a:lnTo>
                            <a:pt x="39" y="0"/>
                          </a:lnTo>
                          <a:lnTo>
                            <a:pt x="169" y="12"/>
                          </a:lnTo>
                          <a:lnTo>
                            <a:pt x="173" y="27"/>
                          </a:lnTo>
                          <a:lnTo>
                            <a:pt x="170" y="45"/>
                          </a:lnTo>
                          <a:lnTo>
                            <a:pt x="140" y="64"/>
                          </a:lnTo>
                          <a:lnTo>
                            <a:pt x="82" y="117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1475400">
                      <a:off x="3689640" y="2103840"/>
                      <a:ext cx="23580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44">
                          <a:moveTo>
                            <a:pt x="0" y="84"/>
                          </a:moveTo>
                          <a:lnTo>
                            <a:pt x="58" y="12"/>
                          </a:lnTo>
                          <a:lnTo>
                            <a:pt x="85" y="27"/>
                          </a:lnTo>
                          <a:lnTo>
                            <a:pt x="97" y="12"/>
                          </a:lnTo>
                          <a:lnTo>
                            <a:pt x="127" y="0"/>
                          </a:lnTo>
                          <a:lnTo>
                            <a:pt x="138" y="21"/>
                          </a:lnTo>
                          <a:lnTo>
                            <a:pt x="150" y="26"/>
                          </a:lnTo>
                          <a:lnTo>
                            <a:pt x="150" y="43"/>
                          </a:lnTo>
                          <a:lnTo>
                            <a:pt x="168" y="49"/>
                          </a:lnTo>
                          <a:lnTo>
                            <a:pt x="164" y="59"/>
                          </a:lnTo>
                          <a:lnTo>
                            <a:pt x="116" y="78"/>
                          </a:lnTo>
                          <a:lnTo>
                            <a:pt x="125" y="104"/>
                          </a:lnTo>
                          <a:lnTo>
                            <a:pt x="120" y="120"/>
                          </a:lnTo>
                          <a:lnTo>
                            <a:pt x="108" y="123"/>
                          </a:lnTo>
                          <a:lnTo>
                            <a:pt x="93" y="115"/>
                          </a:lnTo>
                          <a:lnTo>
                            <a:pt x="90" y="144"/>
                          </a:lnTo>
                          <a:lnTo>
                            <a:pt x="0" y="84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077640" y="1474200"/>
                    <a:ext cx="1081080" cy="1291320"/>
                    <a:chOff x="3077640" y="1474200"/>
                    <a:chExt cx="1081080" cy="1291320"/>
                  </a:xfrm>
                </p:grpSpPr>
                <p:grpSp>
                  <p:nvGrpSpPr>
                    <p:cNvPr id="386" name=""/>
                    <p:cNvGrpSpPr/>
                    <p:nvPr/>
                  </p:nvGrpSpPr>
                  <p:grpSpPr>
                    <a:xfrm>
                      <a:off x="3077640" y="1474200"/>
                      <a:ext cx="1081080" cy="1291320"/>
                      <a:chOff x="3077640" y="1474200"/>
                      <a:chExt cx="1081080" cy="1291320"/>
                    </a:xfrm>
                  </p:grpSpPr>
                  <p:grpSp>
                    <p:nvGrpSpPr>
                      <p:cNvPr id="387" name=""/>
                      <p:cNvGrpSpPr/>
                      <p:nvPr/>
                    </p:nvGrpSpPr>
                    <p:grpSpPr>
                      <a:xfrm>
                        <a:off x="3077640" y="1474200"/>
                        <a:ext cx="1081080" cy="1291320"/>
                        <a:chOff x="3077640" y="1474200"/>
                        <a:chExt cx="1081080" cy="1291320"/>
                      </a:xfrm>
                    </p:grpSpPr>
                    <p:grpSp>
                      <p:nvGrpSpPr>
                        <p:cNvPr id="388" name=""/>
                        <p:cNvGrpSpPr/>
                        <p:nvPr/>
                      </p:nvGrpSpPr>
                      <p:grpSpPr>
                        <a:xfrm>
                          <a:off x="3344760" y="1474200"/>
                          <a:ext cx="342720" cy="402120"/>
                          <a:chOff x="3344760" y="1474200"/>
                          <a:chExt cx="342720" cy="402120"/>
                        </a:xfrm>
                      </p:grpSpPr>
                      <p:sp>
                        <p:nvSpPr>
                          <p:cNvPr id="389" name=""/>
                          <p:cNvSpPr/>
                          <p:nvPr/>
                        </p:nvSpPr>
                        <p:spPr>
                          <a:xfrm rot="1475400">
                            <a:off x="3432960" y="1740240"/>
                            <a:ext cx="147240" cy="110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5" h="106">
                                <a:moveTo>
                                  <a:pt x="0" y="39"/>
                                </a:moveTo>
                                <a:lnTo>
                                  <a:pt x="18" y="85"/>
                                </a:lnTo>
                                <a:lnTo>
                                  <a:pt x="34" y="106"/>
                                </a:lnTo>
                                <a:lnTo>
                                  <a:pt x="105" y="73"/>
                                </a:lnTo>
                                <a:lnTo>
                                  <a:pt x="64" y="0"/>
                                </a:lnTo>
                                <a:lnTo>
                                  <a:pt x="0" y="3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8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90" name=""/>
                          <p:cNvGrpSpPr/>
                          <p:nvPr/>
                        </p:nvGrpSpPr>
                        <p:grpSpPr>
                          <a:xfrm>
                            <a:off x="3344760" y="1474200"/>
                            <a:ext cx="342720" cy="356400"/>
                            <a:chOff x="3344760" y="1474200"/>
                            <a:chExt cx="342720" cy="356400"/>
                          </a:xfrm>
                        </p:grpSpPr>
                        <p:grpSp>
                          <p:nvGrpSpPr>
                            <p:cNvPr id="391" name=""/>
                            <p:cNvGrpSpPr/>
                            <p:nvPr/>
                          </p:nvGrpSpPr>
                          <p:grpSpPr>
                            <a:xfrm>
                              <a:off x="3344760" y="1474200"/>
                              <a:ext cx="342720" cy="356400"/>
                              <a:chOff x="3344760" y="1474200"/>
                              <a:chExt cx="342720" cy="356400"/>
                            </a:xfrm>
                          </p:grpSpPr>
                          <p:sp>
                            <p:nvSpPr>
                              <p:cNvPr id="392" name=""/>
                              <p:cNvSpPr/>
                              <p:nvPr/>
                            </p:nvSpPr>
                            <p:spPr>
                              <a:xfrm rot="1475400">
                                <a:off x="3367440" y="1674720"/>
                                <a:ext cx="1234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8" h="131">
                                    <a:moveTo>
                                      <a:pt x="0" y="4"/>
                                    </a:moveTo>
                                    <a:lnTo>
                                      <a:pt x="2" y="59"/>
                                    </a:lnTo>
                                    <a:lnTo>
                                      <a:pt x="11" y="79"/>
                                    </a:lnTo>
                                    <a:lnTo>
                                      <a:pt x="22" y="103"/>
                                    </a:lnTo>
                                    <a:lnTo>
                                      <a:pt x="30" y="117"/>
                                    </a:lnTo>
                                    <a:lnTo>
                                      <a:pt x="41" y="131"/>
                                    </a:lnTo>
                                    <a:lnTo>
                                      <a:pt x="58" y="124"/>
                                    </a:lnTo>
                                    <a:lnTo>
                                      <a:pt x="88" y="118"/>
                                    </a:lnTo>
                                    <a:lnTo>
                                      <a:pt x="67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33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3" name=""/>
                              <p:cNvSpPr/>
                              <p:nvPr/>
                            </p:nvSpPr>
                            <p:spPr>
                              <a:xfrm rot="1475400">
                                <a:off x="3379680" y="1521000"/>
                                <a:ext cx="273960" cy="220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5" h="212">
                                    <a:moveTo>
                                      <a:pt x="0" y="198"/>
                                    </a:moveTo>
                                    <a:lnTo>
                                      <a:pt x="9" y="166"/>
                                    </a:lnTo>
                                    <a:lnTo>
                                      <a:pt x="18" y="145"/>
                                    </a:lnTo>
                                    <a:lnTo>
                                      <a:pt x="38" y="115"/>
                                    </a:lnTo>
                                    <a:lnTo>
                                      <a:pt x="74" y="76"/>
                                    </a:lnTo>
                                    <a:lnTo>
                                      <a:pt x="110" y="38"/>
                                    </a:lnTo>
                                    <a:lnTo>
                                      <a:pt x="147" y="0"/>
                                    </a:lnTo>
                                    <a:lnTo>
                                      <a:pt x="158" y="1"/>
                                    </a:lnTo>
                                    <a:lnTo>
                                      <a:pt x="195" y="37"/>
                                    </a:lnTo>
                                    <a:lnTo>
                                      <a:pt x="82" y="212"/>
                                    </a:lnTo>
                                    <a:lnTo>
                                      <a:pt x="0" y="19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33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94" name=""/>
                            <p:cNvSpPr/>
                            <p:nvPr/>
                          </p:nvSpPr>
                          <p:spPr>
                            <a:xfrm rot="1475400">
                              <a:off x="3584160" y="1577880"/>
                              <a:ext cx="44640" cy="41760"/>
                            </a:xfrm>
                            <a:prstGeom prst="ellipse">
                              <a:avLst/>
                            </a:prstGeom>
                            <a:solidFill>
                              <a:srgbClr val="ff9f00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280" bIns="-17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33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95" name=""/>
                        <p:cNvSpPr/>
                        <p:nvPr/>
                      </p:nvSpPr>
                      <p:spPr>
                        <a:xfrm rot="1475400">
                          <a:off x="3261240" y="1625040"/>
                          <a:ext cx="713520" cy="103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8" h="997">
                              <a:moveTo>
                                <a:pt x="0" y="227"/>
                              </a:moveTo>
                              <a:lnTo>
                                <a:pt x="11" y="183"/>
                              </a:lnTo>
                              <a:lnTo>
                                <a:pt x="30" y="143"/>
                              </a:lnTo>
                              <a:lnTo>
                                <a:pt x="54" y="107"/>
                              </a:lnTo>
                              <a:lnTo>
                                <a:pt x="78" y="71"/>
                              </a:lnTo>
                              <a:lnTo>
                                <a:pt x="110" y="36"/>
                              </a:lnTo>
                              <a:lnTo>
                                <a:pt x="134" y="0"/>
                              </a:lnTo>
                              <a:lnTo>
                                <a:pt x="163" y="12"/>
                              </a:lnTo>
                              <a:lnTo>
                                <a:pt x="191" y="30"/>
                              </a:lnTo>
                              <a:lnTo>
                                <a:pt x="221" y="51"/>
                              </a:lnTo>
                              <a:lnTo>
                                <a:pt x="251" y="80"/>
                              </a:lnTo>
                              <a:lnTo>
                                <a:pt x="280" y="104"/>
                              </a:lnTo>
                              <a:lnTo>
                                <a:pt x="325" y="153"/>
                              </a:lnTo>
                              <a:lnTo>
                                <a:pt x="317" y="194"/>
                              </a:lnTo>
                              <a:lnTo>
                                <a:pt x="305" y="246"/>
                              </a:lnTo>
                              <a:lnTo>
                                <a:pt x="295" y="299"/>
                              </a:lnTo>
                              <a:lnTo>
                                <a:pt x="289" y="337"/>
                              </a:lnTo>
                              <a:lnTo>
                                <a:pt x="286" y="358"/>
                              </a:lnTo>
                              <a:lnTo>
                                <a:pt x="272" y="394"/>
                              </a:lnTo>
                              <a:lnTo>
                                <a:pt x="448" y="569"/>
                              </a:lnTo>
                              <a:lnTo>
                                <a:pt x="469" y="619"/>
                              </a:lnTo>
                              <a:lnTo>
                                <a:pt x="484" y="669"/>
                              </a:lnTo>
                              <a:lnTo>
                                <a:pt x="502" y="717"/>
                              </a:lnTo>
                              <a:lnTo>
                                <a:pt x="508" y="750"/>
                              </a:lnTo>
                              <a:lnTo>
                                <a:pt x="505" y="790"/>
                              </a:lnTo>
                              <a:lnTo>
                                <a:pt x="503" y="822"/>
                              </a:lnTo>
                              <a:lnTo>
                                <a:pt x="493" y="873"/>
                              </a:lnTo>
                              <a:lnTo>
                                <a:pt x="373" y="997"/>
                              </a:lnTo>
                              <a:lnTo>
                                <a:pt x="317" y="994"/>
                              </a:lnTo>
                              <a:lnTo>
                                <a:pt x="158" y="977"/>
                              </a:lnTo>
                              <a:lnTo>
                                <a:pt x="84" y="890"/>
                              </a:lnTo>
                              <a:lnTo>
                                <a:pt x="75" y="849"/>
                              </a:lnTo>
                              <a:lnTo>
                                <a:pt x="59" y="789"/>
                              </a:lnTo>
                              <a:lnTo>
                                <a:pt x="36" y="736"/>
                              </a:lnTo>
                              <a:lnTo>
                                <a:pt x="26" y="684"/>
                              </a:lnTo>
                              <a:lnTo>
                                <a:pt x="42" y="687"/>
                              </a:lnTo>
                              <a:lnTo>
                                <a:pt x="75" y="720"/>
                              </a:lnTo>
                              <a:lnTo>
                                <a:pt x="109" y="730"/>
                              </a:lnTo>
                              <a:lnTo>
                                <a:pt x="116" y="718"/>
                              </a:lnTo>
                              <a:lnTo>
                                <a:pt x="131" y="717"/>
                              </a:lnTo>
                              <a:lnTo>
                                <a:pt x="134" y="660"/>
                              </a:lnTo>
                              <a:lnTo>
                                <a:pt x="139" y="601"/>
                              </a:lnTo>
                              <a:lnTo>
                                <a:pt x="52" y="513"/>
                              </a:lnTo>
                              <a:lnTo>
                                <a:pt x="92" y="353"/>
                              </a:lnTo>
                              <a:lnTo>
                                <a:pt x="112" y="293"/>
                              </a:lnTo>
                              <a:lnTo>
                                <a:pt x="94" y="287"/>
                              </a:lnTo>
                              <a:lnTo>
                                <a:pt x="107" y="273"/>
                              </a:lnTo>
                              <a:lnTo>
                                <a:pt x="56" y="246"/>
                              </a:lnTo>
                              <a:lnTo>
                                <a:pt x="0" y="2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6" name=""/>
                      <p:cNvGrpSpPr/>
                      <p:nvPr/>
                    </p:nvGrpSpPr>
                    <p:grpSpPr>
                      <a:xfrm>
                        <a:off x="3331440" y="1844280"/>
                        <a:ext cx="295920" cy="500760"/>
                        <a:chOff x="3331440" y="1844280"/>
                        <a:chExt cx="295920" cy="500760"/>
                      </a:xfrm>
                    </p:grpSpPr>
                    <p:grpSp>
                      <p:nvGrpSpPr>
                        <p:cNvPr id="397" name=""/>
                        <p:cNvGrpSpPr/>
                        <p:nvPr/>
                      </p:nvGrpSpPr>
                      <p:grpSpPr>
                        <a:xfrm>
                          <a:off x="3526920" y="1844280"/>
                          <a:ext cx="100440" cy="52200"/>
                          <a:chOff x="3526920" y="1844280"/>
                          <a:chExt cx="100440" cy="52200"/>
                        </a:xfrm>
                      </p:grpSpPr>
                      <p:sp>
                        <p:nvSpPr>
                          <p:cNvPr id="398" name=""/>
                          <p:cNvSpPr/>
                          <p:nvPr/>
                        </p:nvSpPr>
                        <p:spPr>
                          <a:xfrm>
                            <a:off x="3528720" y="1844280"/>
                            <a:ext cx="98640" cy="86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160" bIns="-38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9" name=""/>
                          <p:cNvSpPr/>
                          <p:nvPr/>
                        </p:nvSpPr>
                        <p:spPr>
                          <a:xfrm>
                            <a:off x="3526920" y="1866600"/>
                            <a:ext cx="94320" cy="29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0" name=""/>
                        <p:cNvGrpSpPr/>
                        <p:nvPr/>
                      </p:nvGrpSpPr>
                      <p:grpSpPr>
                        <a:xfrm>
                          <a:off x="3331440" y="2174400"/>
                          <a:ext cx="159840" cy="170640"/>
                          <a:chOff x="3331440" y="2174400"/>
                          <a:chExt cx="159840" cy="170640"/>
                        </a:xfrm>
                      </p:grpSpPr>
                      <p:sp>
                        <p:nvSpPr>
                          <p:cNvPr id="401" name=""/>
                          <p:cNvSpPr/>
                          <p:nvPr/>
                        </p:nvSpPr>
                        <p:spPr>
                          <a:xfrm rot="1475400">
                            <a:off x="3420720" y="2188800"/>
                            <a:ext cx="71640" cy="1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10">
                                <a:moveTo>
                                  <a:pt x="0" y="0"/>
                                </a:moveTo>
                                <a:lnTo>
                                  <a:pt x="13" y="10"/>
                                </a:lnTo>
                                <a:lnTo>
                                  <a:pt x="51" y="4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2" name=""/>
                          <p:cNvSpPr/>
                          <p:nvPr/>
                        </p:nvSpPr>
                        <p:spPr>
                          <a:xfrm rot="1475400">
                            <a:off x="3356280" y="2288520"/>
                            <a:ext cx="50040" cy="47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46">
                                <a:moveTo>
                                  <a:pt x="0" y="0"/>
                                </a:moveTo>
                                <a:lnTo>
                                  <a:pt x="12" y="21"/>
                                </a:lnTo>
                                <a:lnTo>
                                  <a:pt x="36" y="46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3" name=""/>
                          <p:cNvSpPr/>
                          <p:nvPr/>
                        </p:nvSpPr>
                        <p:spPr>
                          <a:xfrm>
                            <a:off x="3331440" y="2280960"/>
                            <a:ext cx="8640" cy="450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404" name=""/>
                    <p:cNvSpPr/>
                    <p:nvPr/>
                  </p:nvSpPr>
                  <p:spPr>
                    <a:xfrm rot="1475400">
                      <a:off x="3709440" y="1761480"/>
                      <a:ext cx="143280" cy="18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75">
                          <a:moveTo>
                            <a:pt x="44" y="0"/>
                          </a:moveTo>
                          <a:lnTo>
                            <a:pt x="9" y="26"/>
                          </a:lnTo>
                          <a:lnTo>
                            <a:pt x="0" y="56"/>
                          </a:lnTo>
                          <a:lnTo>
                            <a:pt x="36" y="83"/>
                          </a:lnTo>
                          <a:lnTo>
                            <a:pt x="43" y="104"/>
                          </a:lnTo>
                          <a:lnTo>
                            <a:pt x="30" y="152"/>
                          </a:lnTo>
                          <a:lnTo>
                            <a:pt x="37" y="171"/>
                          </a:lnTo>
                          <a:lnTo>
                            <a:pt x="79" y="175"/>
                          </a:lnTo>
                          <a:lnTo>
                            <a:pt x="102" y="63"/>
                          </a:lnTo>
                          <a:lnTo>
                            <a:pt x="68" y="23"/>
                          </a:lnTo>
                          <a:lnTo>
                            <a:pt x="57" y="11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3724920" y="2450880"/>
                  <a:ext cx="87840" cy="124200"/>
                  <a:chOff x="3724920" y="2450880"/>
                  <a:chExt cx="87840" cy="124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rot="1475400">
                    <a:off x="3763080" y="2457360"/>
                    <a:ext cx="41760" cy="478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rot="1475400">
                    <a:off x="3732840" y="2520360"/>
                    <a:ext cx="42120" cy="478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3:09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27:00Z</dcterms:modified>
  <cp:revision>31</cp:revision>
  <dc:subject>主题班会课件(分28大类): http://shop62905894.taobao.com</dc:subject>
  <dc:title>主题班会课件(分28大类): http://shop62905894.taobao.com</dc:title>
</cp:coreProperties>
</file>